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6F0-DF96-45F9-9743-11E9CEE0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AB3-37E9-46C5-9EED-1C10A38C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3AC-7470-46B6-B28C-8DAF4654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580-12CB-4FD1-9CFE-4A5B6188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95DC-C8C7-40B0-9DAE-6DBBBA0B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E057-5CE6-4293-85BE-03E54CCD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CE69-C331-4FF4-B39F-5D2F569F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6956-752A-46B0-9C2B-71FD9122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6B2F-B549-490E-9302-20091FE4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18F8-A3AD-4EA4-A153-02C7B268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189D-4D46-4BDA-9002-C7397B5F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770-70C2-416D-98D5-21A629DE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A946-DF59-4E9D-BFDB-91D06927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1E3D-6AB0-4111-98F4-C52FA767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DE76-17E6-4F4B-8715-69151791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01EA-22C4-450D-A867-3D8D787B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5B50-5DBE-4FA5-AB58-5CEAB63F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B8448-9603-4FCF-8C58-9E0A37FF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EA830-527E-45A1-BB3E-DA0D19D2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7BF30-CDF9-4115-9D7E-27EE9523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5297D-8FA1-4E58-BAD6-E6C6B15D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EB79A-04F9-48A1-8830-85300F54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EB8-1268-49D6-A59C-A7E654BA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0D53E-E151-4AA1-AB31-47EE562B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11DD5-1BC9-4349-9405-9584EEBA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E1B61-0DB0-4217-AA67-C1D1A167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51329-16F3-4711-9B83-C771491B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E812B-2F29-4980-AB4C-5DD24877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FFDB1-07D6-488C-8BBC-FD07240A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DCD8C-758B-40E2-8002-22F93B8F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C4001-12BD-42AE-89C2-505859DE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517ED-D191-4AE0-BCBF-E2A32829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0C7B3-FCAE-4B48-9006-6F3FEBD7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876-11D9-43D9-87EC-FDF742BE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2B76B-BDDD-406F-857A-C516C07E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1D7C7-2783-4CB7-9226-DE96AA00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7D64D-26D5-4BEC-A8D4-73A4AD79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ACEC0-457C-4F6C-A5C4-DCE2486D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5A563-623F-43D5-9527-57166E59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88735-614E-4344-9CCC-F2CA398A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0D52E-5DE4-4842-86D9-F83C7E2D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700D7-878C-4119-9E9D-B6B13C59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972B7-BA1D-4331-96B9-549AF08E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66736-C234-4C8A-AFCA-9235BF1F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9AB-F72C-49CD-BB43-6EE8ED6D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B60E8-D666-46E5-AD99-4DD01E96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BE602-5626-4E14-817A-6ED5C783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23E98-807C-47FF-8834-F20DEEAE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E4C7B-2985-4C13-A346-D616051A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16D38-9A02-4929-A93B-9F81B83E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C80BB-96B7-4C20-B893-BD19B373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6EB8F-42B7-41F8-A94A-F80456C4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5CDD3-AD1D-465E-93FA-BB1CAA48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3B9E0-B5B3-40B7-B631-03A02A55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635A5-A471-4799-859B-6FFAA424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445-8D1D-473C-97FB-DE87DB97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CE197-DD85-4446-A3E6-EF66ADF4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D649A-9FA6-4959-A297-05A07DA5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4B707-4681-4CE9-B83A-3D367638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6621C-9BF2-48FE-9EC4-AE786CF7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2B372-A22F-479A-8A24-D5563A8C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70353-A58A-4958-B889-E930CE07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8486E-0CDB-449F-BA03-89338010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E3FE4-6999-41C1-9413-F00E1105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B452D-D78C-4A8B-9537-1CB829DA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299D5-2C0C-4DAF-93E0-DBA0F60C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F47-79DF-4A5F-8DF2-F7327546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B7119-8654-46BD-98CD-8C03BB6B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C234F-0074-4E9F-820B-89666347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C65FE-A14A-4465-9399-C2E091F2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6B3-97A5-4004-B2DA-5BA05C64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AF2-1E92-4113-A414-B096F833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BDCB-D93C-43D2-8079-7C1A3BA11B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EC14-BC32-4AEE-8DCD-2ED3B34259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82CE-47B6-4850-97F0-B3FBCFEAC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1D5C-284B-43B9-9547-A05770177B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0F61-37E9-4B76-865F-A354E45CEDE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5330-99E2-41EF-98DB-05EB49D7438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 деятель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666880" y="533520"/>
            <a:ext cx="594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 рабочих, возводящих Шартрский собор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прашивают, что они делают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дин говорит: «Я таскаю камни»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ругой: «Зарабатываю на пропитание»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етий: «Строю хр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320688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Моти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причина, лежащая в основе выбора всех действий и поступков челове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ольшинство наших мотивов выражается в виде ответа на вопрос: для чего я это делаю? «Я учусь для того, чтобы ….» «Я хочу получить профессию… чтобы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77828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Мотивация</a:t>
            </a: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побуждения, вызывающие активность организма и определяющие ее направленн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ажнейшим условием профессиональной самореализации личности являются не столько способности, сколько мотивация человека и его жизненные цели. Мотивация — это двигатель человеческих поступ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-80640"/>
            <a:ext cx="7543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№1. «Преодоле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итайте эти примеры и подумайте, что роднит этих успешных и счастливых в профессиональной деятельности людей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1118520"/>
            <a:ext cx="868680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ирковой артис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алентин Дику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полняя акробатический трюк, получил травму, приковавшую его к постели. Врачи не оставляли никакой надежды. Благодаря ежедневным многочасовым упражнениям Валентина не только встал на ноги, но и вернулся на арену цирка, где жонглирует гирями, выдерживая груз почти в тонну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В 1996 году во время тренировки конек партнера буквально раскроил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ереп. Врачи сделали все возможное — Лена осталась жива. А сама Лена и ее новый партнер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то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елали невозможное — после нескольких лет упорных тренировок 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2002 году пара Бережная - Сихарулидз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завоевала олимпийскую золотую медаль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Великолепная, яркая балерина, обладающая безупречной техникой и заслуженно получающая награды за свое мастерство — такой мы знае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стасию Волочков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Но, чтобы достичь этого, надо было преодолеть множество препятствий, в том числе сомнения специалистов, которые считали Анастасию слишком высокой для балета.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69720" y="515520"/>
            <a:ext cx="747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2. «Определение мотивации»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одика Головах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приведенные ниже суждения о профессиях и выберите два из них, наиболее соответствующие вашим взгляд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9720" y="1467000"/>
            <a:ext cx="62517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914400" y="1447920"/>
          <a:ext cx="7467480" cy="4724280"/>
        </p:xfrm>
        <a:graphic>
          <a:graphicData uri="http://schemas.openxmlformats.org/drawingml/2006/table">
            <a:tbl>
              <a:tblPr/>
              <a:tblGrid>
                <a:gridCol w="3697200"/>
                <a:gridCol w="3770280"/>
              </a:tblGrid>
              <a:tr h="472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 наибольшей степени реализовать свои физические возможности, проявить силу, ловкость, волевые качества.</a:t>
                      </a:r>
                      <a:br>
                        <a:rPr sz="1500"/>
                      </a:b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остичь высокого общественного положения, известности, славы, получить признание окружающих.</a:t>
                      </a:r>
                      <a:br>
                        <a:rPr sz="1500"/>
                      </a:b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лучать высокий заработок, обеспечивающий хорошие материальные условия.</a:t>
                      </a:r>
                      <a:br>
                        <a:rPr sz="1500"/>
                      </a:b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оявлять творческую инициативу, полностью раскрыть свои интеллектуальные способности.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аботать в хороших условиях, чтобы работа не была утомительной, не вызывала отрицательных эмоций.</a:t>
                      </a:r>
                      <a:br>
                        <a:rPr sz="1500"/>
                      </a:b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хранить достаточно энергии и времени для увлечений, общения с друзьями и близкими.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85" name="Picture 17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148320"/>
            <a:ext cx="8686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, в свою очередь, подразделяются на низшие и высшие. В слове «низшие» нет ничего обидного, они есть у всех людей. Это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е потреб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 пище и воде, воздухе, тепле, крыше над головой и т. д.) 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защищен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враждебных действий других людей, стихийных бедствий и техногенных катастроф, уверенность в завтрашнем дне. Далее идут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потреб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чувство принадлежности к семье, потребность в любви). Следующий уровень —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в уважении и самоуважен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сший уровень —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в самореализац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аксимальном раскрытии своих способ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-4327560" y="219564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191120" y="2666880"/>
          <a:ext cx="1752480" cy="25884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РЕАЛИЗ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-4327560" y="35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4327560" y="2195640"/>
            <a:ext cx="21430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962520" y="3048120"/>
          <a:ext cx="2285640" cy="349200"/>
        </p:xfrm>
        <a:graphic>
          <a:graphicData uri="http://schemas.openxmlformats.org/drawingml/2006/table">
            <a:tbl>
              <a:tblPr/>
              <a:tblGrid>
                <a:gridCol w="228564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-432756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4327560" y="2195640"/>
            <a:ext cx="26798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429000" y="3505320"/>
          <a:ext cx="3276360" cy="304560"/>
        </p:xfrm>
        <a:graphic>
          <a:graphicData uri="http://schemas.openxmlformats.org/drawingml/2006/table">
            <a:tbl>
              <a:tblPr/>
              <a:tblGrid>
                <a:gridCol w="3276360"/>
              </a:tblGrid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 ПОТРЕБ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-432756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4327560" y="2195640"/>
            <a:ext cx="32148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895480" y="3962520"/>
          <a:ext cx="4267080" cy="35712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 В ЗАЩИЩ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-4327560" y="4389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-4327560" y="2195640"/>
            <a:ext cx="37512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514600" y="4397400"/>
          <a:ext cx="5029200" cy="2588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ИЕ ПОТРЕБ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20286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57200" y="79632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ребности большинства людей различаются незначите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ыйти на улицу и каждому задать вопро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то для Вас в жизни главное?», мы получим примерно одни и те же отве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Благополучие семьи и близ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Материальная обеспеч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Хорош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Карь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Сл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3352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7467480" y="2209680"/>
            <a:ext cx="1162080" cy="15242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1419120" cy="11811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1066680" cy="2057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6781680" y="4495680"/>
            <a:ext cx="771480" cy="7336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11239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2000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2000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8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99"/>
                </a:solidFill>
                <a:uFillTx/>
                <a:latin typeface="Garamond"/>
              </a:rPr>
              <a:t>Как же большинство людей обходится со значимыми ценностями?</a:t>
            </a:r>
            <a:br>
              <a:rPr sz="38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ff"/>
                </a:solidFill>
                <a:latin typeface="Arial"/>
              </a:rPr>
              <a:t>Здоровье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обят всевозможными способами. Пьют, курят, употребляют наркотики. Переедают, недосыпают, мало двигаются. Перенапрягаются, нервнич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Благополучие семьи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гаются, тиранят, родных, лгут, изменяют, занимают деньги. Забывают родителей, бросают детей. Погружаются в собственные дела и интересы настолько, что для семьи уже нет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60093"/>
                </a:solidFill>
                <a:latin typeface="Arial"/>
              </a:rPr>
              <a:t>Материальная обеспеченность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игрывают в азартные игры все. Пускаются в аферы и разоряются. В погоне за лишним лишаются необходимого. Пьют. Ленятся. Тратят деньги на явно ненужные вещи, а в тяжелый час идут по мир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ffff"/>
                </a:solidFill>
                <a:latin typeface="Arial"/>
              </a:rPr>
              <a:t>Хорошая работа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шинство людей к своей работе равнодушно, или, более того, ее ненавидит. Устают, переутомляются, мечтают об отпуске. Занимаются черной поденщиной — ради денег, которые в таком количестве не являются для них строго необходимы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66ff"/>
                </a:solidFill>
                <a:latin typeface="Arial"/>
              </a:rPr>
              <a:t>Любовь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все люди хотят любить и быть любимыми — то уже просто по закону больших чисел большинство должно это иметь. Жизнь убеждает нас в том, что ничего подобного. Почему, зачем эта «главная ценность» связана так часто с огромным количеством страданий, лишений и всяческих несчастий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"/>
              </a:rPr>
              <a:t>Карьера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рягаться, лицемерить, прогибаться перед начальством, сносить несправедливые попреки, переступать через люд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60093"/>
                </a:solidFill>
                <a:latin typeface="Arial"/>
              </a:rPr>
              <a:t>Слава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оренные страны, войны. Бывает и безвредная слава. Усердно тренируйтесь в плевках — и попадете в Книгу рекордов Гиннеса. Спортивная слава — угробленное здоровье, укороченная жизнь и режим, полный тяжелейшего труда и жестоких огранич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уртазина Раиса Гасиевна</cp:lastModifiedBy>
  <dcterms:modified xsi:type="dcterms:W3CDTF">2009-10-28T09:07:2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