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EF1-8E61-494C-8F26-50840FAD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417-CF2B-4A18-969E-03E36141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254-B65A-4423-AFB2-29C52BB1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DAC-F869-4CE0-A414-7E98CA27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562C-1AA4-4D5D-A3D1-912C596E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43BC-9B93-4250-9F5F-E45C62A3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4040-73CE-484D-A629-690912DC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68CE-A27A-434A-BE90-0B59E2D1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A790-2B6D-4658-BE69-89AA76E8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FE39-41EC-49F9-8746-E2B4BD31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469B-C8E7-406A-81E7-EE17608B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653-6E20-4BEB-AC7F-B98BCA72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4DE2-2F73-4E3B-AE07-ACD3E88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BF48-DCCB-41C3-8F9F-2FAAC199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A8A1-B6B0-4DE6-BAC3-3AAD3584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6B22-86D7-44C2-AC7F-86816BF0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FE16-2FE9-4AAE-B43B-63151041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F8271-1057-4175-96F5-58DAB0D2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49E80-5DAC-4014-934E-A53425C8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7E772-F524-4481-8EA0-0E8BCB6A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0833C-247B-4120-A125-0960BE46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4A49C-36F8-4870-BCA7-A6796C7D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566-64A8-4CEC-B2D6-B7666851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02CEB-565D-4066-B0A2-C1114527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B6811-D8DA-46EB-A37B-1208280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A73AE-BF5D-4642-8D5B-3CEBF4D9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73C61-2E2C-4B34-8BE4-BE2102A0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8F93E-841D-4329-B66A-436DCEC6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36E53-7B3B-4DE9-B4BA-8A67A313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427CE-47A0-436A-BD91-D1EB8426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44202-8E44-43C7-A49B-DD53F878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EEDE-AC9F-4602-9D48-3BEDB8E2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60B0-BFF1-4A89-9221-E1731DF8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CF9-8E01-48E5-BDB4-F2DAB925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1D171-FEAF-484C-8746-AC423B24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6EAB5-5DC9-49DE-9157-5983DFD9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01E1E-70D6-4905-A30C-199F541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B45F-3E23-474D-8D80-DACB5D2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42011-3636-490D-B1F8-7C4B5C8F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9A012-234A-4AB1-B898-09402900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A34F6-1316-4157-BE9F-83279AE0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CEA2-3E33-4481-81AA-8FBC3C42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7F27-0A2F-428A-AF53-A60C26DC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6EA36-78A4-48BD-AC5F-746A01DF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EAB-714F-46C2-A1D5-78204B96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A35A-C59F-4C8B-BDD5-899FAE28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115E5-B826-402B-BBB4-6031EB31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6A4A6-5994-4F5B-BBE4-252847D8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58D9D-5ACE-472F-82FE-5CB19D41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13A06-157D-4748-AE67-5424BF0E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FD22-627A-4A93-B037-D93FE7DB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01C07-052C-43BF-AA85-592E9026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47318-CA35-4F75-BC5B-AFC81B68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23F63-52DF-4F05-9CF7-261CE3EF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6373A-83DD-429D-AFEA-EB3AAEC2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9CC-B52A-47AB-8965-94B9AB3D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809D5-6704-41AF-BA3A-3A72A9ED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7EE1B-F507-4556-9693-CBCC4BCD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4CFDB-DAD0-49B8-A937-B5384678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35E40-8E8F-417E-AB64-605B98F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AB3DB-FB3F-43AE-8C1E-FCD1ADF2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8BE12-F216-477E-922F-7F02DE14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BF021-D384-4F4F-85F8-1677878C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9C4E6-DC2E-42FE-82EA-52126CC2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5E998-E89B-4ACA-93FC-20B0287E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4EEEB-188E-4244-86A1-4892157B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07C-7641-449A-94A3-5222D267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E7850-8951-43D5-9563-E9997499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0903-D32B-46F2-AC1F-BF5A7A6F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E0157-C763-464F-9CB3-709AC280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C9C-233D-40EA-A6B4-DEC98509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4CE-65C4-4B16-B739-5C02136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20EE-56B2-4CFA-8B69-967B637EB5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6FFA-4ABC-4193-9498-CF869BA8DE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7517-EA6A-495A-AC96-60D1FF3C8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BE2E-6F6C-4BB6-A388-298DC5288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76CE-3681-4D48-8A03-3B58820FDA8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1E50-722F-4868-9C7C-02CFFBD89A1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деятель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666880" y="533520"/>
            <a:ext cx="594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рабочих, возводящих Шартрский собор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рашивают, что они делают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дин говорит: «Я таскаю камни»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ругой: «Зарабатываю на пропитание»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етий: «Строю хр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320688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Моти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причина, лежащая в основе выбора всех действий и поступков челове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ольшинство наших мотивов выражается в виде ответа на вопрос: для чего я это делаю? «Я учусь для того, чтобы ….» «Я хочу получить профессию… чтобы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77828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Мотивация</a:t>
            </a: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побуждения, вызывающие активность организма и определяющие ее направленн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ажнейшим условием профессиональной самореализации личности являются не столько способности, сколько мотивация человека и его жизненные цели. Мотивация — это двигатель человеческих поступ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-80640"/>
            <a:ext cx="7543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1. «Преодоле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итайте эти примеры и подумайте, что роднит этих успешных и счастливых в профессиональной деятельности людей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1118520"/>
            <a:ext cx="868680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ирковой артис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алентин Дику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полняя акробатический трюк, получил травму, приковавшую его к постели. Врачи не оставляли никакой надежды. Благодаря ежедневным многочасовым упражнениям Валентина не только встал на ноги, но и вернулся на арену цирка, где жонглирует гирями, выдерживая груз почти в тонн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В 1996 году во время тренировки конек партнера буквально раскроил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реп. Врачи сделали все возможное — Лена осталась жива. А сама Лена и ее новый партнер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то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ли невозможное — после нескольких лет упорных тренировок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002 году пара Бережная - Сихарулидз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воевала олимпийскую золотую медаль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Великолепная, яркая балерина, обладающая безупречной техникой и заслуженно получающая награды за свое мастерство — такой мы знае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стасию Волочков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Но, чтобы достичь этого, надо было преодолеть множество препятствий, в том числе сомнения специалистов, которые считали Анастасию слишком высокой для балета.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69720" y="515520"/>
            <a:ext cx="747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2. «Определение мотивации»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одика Головах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приведенные ниже суждения о профессиях и выберите два из них, наиболее соответствующие вашим взгляд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9720" y="1467000"/>
            <a:ext cx="62517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914400" y="1447920"/>
          <a:ext cx="7467480" cy="4724280"/>
        </p:xfrm>
        <a:graphic>
          <a:graphicData uri="http://schemas.openxmlformats.org/drawingml/2006/table">
            <a:tbl>
              <a:tblPr/>
              <a:tblGrid>
                <a:gridCol w="3697200"/>
                <a:gridCol w="3770280"/>
              </a:tblGrid>
              <a:tr h="472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 наибольшей степени реализовать свои физические возможности, проявить силу, ловкость, волевые качества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остичь высокого общественного положения, известности, славы, получить признание окружающих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лучать высокий заработок, обеспечивающий хорошие материальные условия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оявлять творческую инициативу, полностью раскрыть свои интеллектуальные способности.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ботать в хороших условиях, чтобы работа не была утомительной, не вызывала отрицательных эмоций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хранить достаточно энергии и времени для увлечений, общения с друзьями и близкими.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85" name="Picture 17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148320"/>
            <a:ext cx="8686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, в свою очередь, подразделяются на низшие и высшие. В слове «низшие» нет ничего обидного, они есть у всех людей. Это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потреб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 пище и воде, воздухе, тепле, крыше над головой и т. д.) 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защищен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враждебных действий других людей, стихийных бедствий и техногенных катастроф, уверенность в завтрашнем дне. Далее идут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потреб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чувство принадлежности к семье, потребность в любви). Следующий уровень —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в уважении и самоуважен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сший уровень —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в самореализац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ксимальном раскрытии своих способ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4327560" y="219564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191120" y="2666880"/>
          <a:ext cx="1752480" cy="25884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РЕАЛИЗ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-432756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4327560" y="2195640"/>
            <a:ext cx="21430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962520" y="3048120"/>
          <a:ext cx="2285640" cy="349200"/>
        </p:xfrm>
        <a:graphic>
          <a:graphicData uri="http://schemas.openxmlformats.org/drawingml/2006/table">
            <a:tbl>
              <a:tblPr/>
              <a:tblGrid>
                <a:gridCol w="228564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-432756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4327560" y="2195640"/>
            <a:ext cx="26798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429000" y="3505320"/>
          <a:ext cx="3276360" cy="304560"/>
        </p:xfrm>
        <a:graphic>
          <a:graphicData uri="http://schemas.openxmlformats.org/drawingml/2006/table">
            <a:tbl>
              <a:tblPr/>
              <a:tblGrid>
                <a:gridCol w="3276360"/>
              </a:tblGrid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ПОТРЕБ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-432756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4327560" y="2195640"/>
            <a:ext cx="3214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895480" y="3962520"/>
          <a:ext cx="4267080" cy="35712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 ЗАЩИЩ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-4327560" y="4389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4327560" y="2195640"/>
            <a:ext cx="37512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514600" y="4397400"/>
          <a:ext cx="5029200" cy="2588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ИЕ ПОТРЕБ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2028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57200" y="79632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ребности большинства людей различаются незначите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ыйти на улицу и каждому задать вопро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то для Вас в жизни главное?», мы получим примерно одни и те же отве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Благополучие семьи и близ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Материальная обеспеч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Хорош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арь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Сл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7467480" y="2209680"/>
            <a:ext cx="1162080" cy="1524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1419120" cy="1181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1066680" cy="2057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6781680" y="4495680"/>
            <a:ext cx="771480" cy="7336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11239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200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20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8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99"/>
                </a:solidFill>
                <a:uFillTx/>
                <a:latin typeface="Garamond"/>
              </a:rPr>
              <a:t>Как же большинство людей обходится со значимыми ценностями?</a:t>
            </a:r>
            <a:br>
              <a:rPr sz="38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ff"/>
                </a:solidFill>
                <a:latin typeface="Arial"/>
              </a:rPr>
              <a:t>Здоровье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обят всевозможными способами. Пьют, курят, употребляют наркотики. Переедают, недосыпают, мало двигаются. Перенапрягаются, нервнич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Благополучие семьи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гаются, тиранят, родных, лгут, изменяют, занимают деньги. Забывают родителей, бросают детей. Погружаются в собственные дела и интересы настолько, что для семьи уже нет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60093"/>
                </a:solidFill>
                <a:latin typeface="Arial"/>
              </a:rPr>
              <a:t>Материальная обеспеченность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игрывают в азартные игры все. Пускаются в аферы и разоряются. В погоне за лишним лишаются необходимого. Пьют. Ленятся. Тратят деньги на явно ненужные вещи, а в тяжелый час идут по мир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ffff"/>
                </a:solidFill>
                <a:latin typeface="Arial"/>
              </a:rPr>
              <a:t>Хорошая работа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шинство людей к своей работе равнодушно, или, более того, ее ненавидит. Устают, переутомляются, мечтают об отпуске. Занимаются черной поденщиной — ради денег, которые в таком количестве не являются для них строго необходимы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66ff"/>
                </a:solidFill>
                <a:latin typeface="Arial"/>
              </a:rPr>
              <a:t>Любовь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все люди хотят любить и быть любимыми — то уже просто по закону больших чисел большинство должно это иметь. Жизнь убеждает нас в том, что ничего подобного. Почему, зачем эта «главная ценность» связана так часто с огромным количеством страданий, лишений и всяческих несчастий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"/>
              </a:rPr>
              <a:t>Карьера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ягаться, лицемерить, прогибаться перед начальством, сносить несправедливые попреки, переступать через лю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60093"/>
                </a:solidFill>
                <a:latin typeface="Arial"/>
              </a:rPr>
              <a:t>Слава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оренные страны, войны. Бывает и безвредная слава. Усердно тренируйтесь в плевках — и попадете в Книгу рекордов Гиннеса. Спортивная слава — угробленное здоровье, укороченная жизнь и режим, полный тяжелейшего труда и жестоких огранич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уртазина Раиса Гасиевна</cp:lastModifiedBy>
  <dcterms:modified xsi:type="dcterms:W3CDTF">2009-10-28T09:07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