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5D6B56-6304-46AD-A0DC-FF08DF0DB2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CF1D2D-2220-437E-BF8E-B73B0B51248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5714DE-D9FB-4263-B782-6AB7F722F9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46F-2959-4A45-A3BD-1884B88A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2BD-7AD7-4D61-A50D-C56D30D4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7CD-839F-4D7C-8CD3-CA32FBF5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F42-BAF2-42B6-8299-2CB48CA9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D0C9-5F09-42CF-9ADC-F8D63A12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E355-ED1C-472F-8A39-F5685D3F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EB49-7B5D-45A4-86B3-BF8B94AD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DAEB-FE0B-4185-8779-FDCB1451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5E9E-50BD-410C-89F1-F2B17227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0471-3CF2-4F09-8E61-463CBA27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B873-8092-4006-8311-5FCBFF8D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246-5D5F-47AA-A72A-EADD25AB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B612-3C9C-46DF-86D2-36892766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1953-9A6E-4276-920B-116BA9DB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B52C-79CA-47A7-BCE1-5888F4F4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707C-C15D-47C8-82EF-FE0D1EC6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C9F0-9D5C-4B0C-A93C-4E4516CD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AC9-A404-4D76-BDE3-3C854BD3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6EE-E1EA-4AF6-ADE4-BF939E09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B4D-381A-4E4A-9801-48BBCE36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7A0-DA4C-4643-8183-6D7837EA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E98-C472-4169-B5C1-F2F15D85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1FF-A24F-41D5-8DBC-D2E59600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C1D-FDC7-4330-9B4B-B083DC60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08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1840" indent="-2268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108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BA88-C41F-42F0-8841-18F3D6982E4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08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1840" indent="-2268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108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E756-68AB-429E-80DB-1859A300C8A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461440" cy="203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266720" y="45720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e2d5a3"/>
                </a:solidFill>
                <a:latin typeface="Times New Roman"/>
              </a:rPr>
              <a:t>Выполнил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e2d5a3"/>
                </a:solidFill>
                <a:latin typeface="Times New Roman"/>
              </a:rPr>
              <a:t>Казаринов Антон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e2d5a3"/>
                </a:solidFill>
                <a:latin typeface="Times New Roman"/>
              </a:rPr>
              <a:t>4 «Г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ceb966"/>
                </a:solidFill>
                <a:latin typeface="Times New Roman"/>
              </a:rPr>
              <a:t>Руководитель: Галина Васильевна</a:t>
            </a:r>
            <a:r>
              <a:rPr b="0" lang="en-US" sz="2800" spc="-1" strike="noStrike">
                <a:solidFill>
                  <a:srgbClr val="ceb9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eb966"/>
                </a:solidFill>
                <a:latin typeface="Times New Roman"/>
              </a:rPr>
              <a:t>Тимошки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"...Was...  Marilyn Monroe a famous actress?" "Yes, she ...was...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    "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lfred Hitchcock an actor?" "No, he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 famous director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    "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eethoven, Mozart and Chopin directors? No, they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"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"They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omposers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    ".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omas Edison a singer?" "No, h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...................."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"H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 inventor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5    "....................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braham  Lincoln  and  George Washington presidents of the USA?" "Yes, they ............ 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...am... cold. Please, close the window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om and Jean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n Spain last week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arah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en years old in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995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Georg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ired. He is going to bed now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5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 secretary. I work in a big offic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6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om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t Peter's house yesterday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7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um and Dad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t home last nigh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8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erry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y friend. He lives next door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9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lison and Kat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ate for school yesterday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0   ...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cameramen at the studio now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blinds dir="vert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371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s / with I you / who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eeting I at I were / people / how man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ou I were / sad / wh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st night / you / at / home / wer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n I was / shop /th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re / much / tickets / the / how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, it was close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ty-fiv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   ......................................................................£20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cause I was alon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, I was ou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o was with you?...    Aunt Mar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hecker dir="ver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3" descr=""/>
          <p:cNvPicPr/>
          <p:nvPr/>
        </p:nvPicPr>
        <p:blipFill>
          <a:blip r:embed="rId2"/>
          <a:stretch/>
        </p:blipFill>
        <p:spPr>
          <a:xfrm>
            <a:off x="378000" y="298440"/>
            <a:ext cx="8321400" cy="601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АНТОН\Мои документы\Мои рисунки\Гарри Поттер\Отсканировано 28.03.2008 19-20.bmp"/>
          <p:cNvPicPr/>
          <p:nvPr/>
        </p:nvPicPr>
        <p:blipFill>
          <a:blip r:embed="rId2"/>
          <a:stretch/>
        </p:blipFill>
        <p:spPr>
          <a:xfrm>
            <a:off x="152280" y="1066680"/>
            <a:ext cx="4343400" cy="261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                  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af9738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Bob is eighty. He's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old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and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weak.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                  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Fifty years</a:t>
            </a:r>
            <a:r>
              <a:rPr b="0" lang="ru-RU" sz="1800" spc="-1" strike="noStrike">
                <a:solidFill>
                  <a:srgbClr val="af9738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ago they were young. Bob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Mary, his wife is seventy-nine. was strong</a:t>
            </a:r>
            <a:r>
              <a:rPr b="0" lang="ru-RU" sz="1800" spc="-1" strike="noStrike">
                <a:solidFill>
                  <a:srgbClr val="af9738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           He wasn't weak. Mary was                                   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       She's old too.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            beautiful. She wasn't old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af9738"/>
                </a:solidFill>
                <a:latin typeface="Book Antiqua"/>
              </a:rPr>
              <a:t>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C:\Documents and Settings\АНТОН\Мои документы\Мои рисунки\Гарри Поттер\Копия Отсканировано 28.03.2008 19-20.bmp"/>
          <p:cNvPicPr/>
          <p:nvPr/>
        </p:nvPicPr>
        <p:blipFill>
          <a:blip r:embed="rId3"/>
          <a:stretch/>
        </p:blipFill>
        <p:spPr>
          <a:xfrm>
            <a:off x="4572000" y="1066680"/>
            <a:ext cx="4449600" cy="2617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14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В прошедшем простом времени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(past simple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*) глагол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"to be"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с личными местоимениями именительном падеже имеет следующие формы: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was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для -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I, he, she, it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и -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were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для -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you, they.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В вопросах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was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I were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ставятся перед личным местоимением в именительном падеже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(I, you, he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и т.д.) или существительным. Например: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She was ill yesterday.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-&gt;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Was she ill yesterday?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Отрицания образуются путем постановки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not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после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was I were.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Например: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She was not ill yesterday. I She wasn't ill yesterday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600" spc="-1" strike="noStrike">
                <a:solidFill>
                  <a:srgbClr val="af9738"/>
                </a:solidFill>
                <a:latin typeface="Times New Roman"/>
              </a:rPr>
              <a:t>* Иногда употребляется термин </a:t>
            </a:r>
            <a:r>
              <a:rPr b="0" i="1" lang="en-US" sz="2600" spc="-1" strike="noStrike">
                <a:solidFill>
                  <a:srgbClr val="af9738"/>
                </a:solidFill>
                <a:latin typeface="Book Antiqua"/>
              </a:rPr>
              <a:t>past indefinit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ipe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Таблица 4" descr=""/>
          <p:cNvPicPr/>
          <p:nvPr/>
        </p:nvPicPr>
        <p:blipFill>
          <a:blip r:embed="rId2"/>
          <a:stretch/>
        </p:blipFill>
        <p:spPr>
          <a:xfrm>
            <a:off x="231840" y="1146240"/>
            <a:ext cx="8826480" cy="399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Уч.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A: Where were you at </a:t>
            </a: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8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o'clock yesterday </a:t>
            </a: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Уч. В: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I was at the cinem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1 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you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 cine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2 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Helen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pa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Tom and Mary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theat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4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Mr Miller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 wo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5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Doris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 h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6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you and the boys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supermark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450720" y="55440"/>
            <a:ext cx="8242560" cy="14446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852192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y were in Berli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ast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                         He was in hospital tw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nth. 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(When?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ast month.)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eeks ago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When? Two weeks ago.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1828800" cy="216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5638680" y="1828800"/>
            <a:ext cx="1828800" cy="2193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0"/>
          <p:cNvSpPr/>
          <p:nvPr/>
        </p:nvSpPr>
        <p:spPr>
          <a:xfrm>
            <a:off x="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st simple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потребляется для выражения действия, которое закончилось в определенное указанное время в прошлом. Иными словами, нам известно, когда (и часто где) оно произош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Заголовок 1" descr=""/>
          <p:cNvPicPr/>
          <p:nvPr/>
        </p:nvPicPr>
        <p:blipFill>
          <a:blip r:embed="rId4"/>
          <a:stretch/>
        </p:blipFill>
        <p:spPr>
          <a:xfrm>
            <a:off x="1212840" y="-66600"/>
            <a:ext cx="6261120" cy="968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маркерам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past simple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носятся: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yesterday,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ast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eek,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ast month, last year. two days I weeks I months I years ago,</a:t>
            </a:r>
            <a:r>
              <a:rPr b="0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ast Monday/ Tuesday, in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975 и т.д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аткие ответы строятся с помощью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Yes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чного местоимения в именительном падеже и глагольных форм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as / wasn't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ere / weren't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держание вопроса не повторяется. Например: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ere you late yesterday? Yes, I was. I No, I wasn'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47920" y="3048120"/>
          <a:ext cx="6095880" cy="2225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Were you … </a:t>
                      </a:r>
                      <a:r>
                        <a:rPr b="1" lang="ru-RU" sz="2800" spc="-1" strike="noStrike">
                          <a:solidFill>
                            <a:srgbClr val="af9738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Yes, I was/we w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No, I wasn't/we weren'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Was he/she/it </a:t>
                      </a:r>
                      <a:r>
                        <a:rPr b="1" lang="ru-RU" sz="2800" spc="-1" strike="noStrike">
                          <a:solidFill>
                            <a:srgbClr val="af9738"/>
                          </a:solidFill>
                          <a:latin typeface="Times New Roman"/>
                        </a:rPr>
                        <a:t>.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Yes, he/she/it was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No, he/she/it wasn'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Was he/she/it</a:t>
                      </a:r>
                      <a:r>
                        <a:rPr b="1" lang="ru-RU" sz="2800" spc="-1" strike="noStrike">
                          <a:solidFill>
                            <a:srgbClr val="af9738"/>
                          </a:solidFill>
                          <a:latin typeface="Times New Roman"/>
                        </a:rPr>
                        <a:t>.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Yes, they w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No, they weren'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11" name="Прямоугольник 8"/>
          <p:cNvSpPr/>
          <p:nvPr/>
        </p:nvSpPr>
        <p:spPr>
          <a:xfrm>
            <a:off x="685800" y="5562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мечание. Когда говорим о людях, которых уже нет в живых, мы употребляем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st si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09-10-08T07:06:55Z</dcterms:modified>
  <cp:revision>31</cp:revision>
  <dc:subject/>
  <dc:title>Слайд 1</dc:title>
</cp:coreProperties>
</file>