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406-4597-4408-B249-4945C7FB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500-EF93-408A-BA89-4C0E97F7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C99-663C-4C3A-94B8-AD537996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DA3-360C-40D5-9AF6-D2B1929C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DBE-5B72-4243-ABF9-CAF1FB8C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AF5-5687-49CF-B23D-05051703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4AE-451A-44B9-B070-5AF06B1C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2FC-F3C9-4E43-B573-7C7EC6FE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271-EFBE-4A4A-9411-A3C8BB0C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90C-DE1F-4E77-BD2A-442A7DF3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1F4-A699-40C9-A9E8-80F6C238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083-3EC2-4088-8C77-A89BE63C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1810-6B39-4688-8F9A-92565A8FF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419640" y="981000"/>
            <a:ext cx="3744720" cy="81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am,  i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667400" y="1782720"/>
            <a:ext cx="11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4140360" y="2565360"/>
            <a:ext cx="22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Times New Roman"/>
              </a:rPr>
              <a:t>are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Times New Roman"/>
              <a:ea typeface="Times New Roman"/>
            </a:endParaRPr>
          </a:p>
        </p:txBody>
      </p:sp>
      <p:sp>
        <p:nvSpPr>
          <p:cNvPr id="44" name="AutoShape 9"/>
          <p:cNvSpPr/>
          <p:nvPr/>
        </p:nvSpPr>
        <p:spPr>
          <a:xfrm>
            <a:off x="3203640" y="3573360"/>
            <a:ext cx="4681440" cy="2519640"/>
          </a:xfrm>
          <a:prstGeom prst="bevel">
            <a:avLst>
              <a:gd name="adj" fmla="val 12500"/>
            </a:avLst>
          </a:prstGeom>
          <a:solidFill>
            <a:srgbClr val="5e52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635280" y="3789360"/>
            <a:ext cx="394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зентация к уроку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английского язы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БОУ СОШ № 98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ерзлик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995480" y="765000"/>
            <a:ext cx="10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omic Sans MS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330440" y="620640"/>
            <a:ext cx="17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817320" y="76500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mic Sans MS"/>
              </a:rPr>
              <a:t>mer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934280" y="472608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cu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369680" y="5157720"/>
            <a:ext cx="13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821280" y="4797360"/>
            <a:ext cx="17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unluc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10" descr="Кащей"/>
          <p:cNvPicPr/>
          <p:nvPr/>
        </p:nvPicPr>
        <p:blipFill>
          <a:blip r:embed="rId1"/>
          <a:stretch/>
        </p:blipFill>
        <p:spPr>
          <a:xfrm>
            <a:off x="1835280" y="1773360"/>
            <a:ext cx="2062080" cy="28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Мальвина"/>
          <p:cNvPicPr/>
          <p:nvPr/>
        </p:nvPicPr>
        <p:blipFill>
          <a:blip r:embed="rId2"/>
          <a:stretch/>
        </p:blipFill>
        <p:spPr>
          <a:xfrm>
            <a:off x="4127400" y="1773360"/>
            <a:ext cx="2197080" cy="280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незнайка"/>
          <p:cNvPicPr/>
          <p:nvPr/>
        </p:nvPicPr>
        <p:blipFill>
          <a:blip r:embed="rId3"/>
          <a:stretch/>
        </p:blipFill>
        <p:spPr>
          <a:xfrm>
            <a:off x="6588000" y="1773360"/>
            <a:ext cx="215604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3"/>
          <p:cNvSpPr/>
          <p:nvPr/>
        </p:nvSpPr>
        <p:spPr>
          <a:xfrm>
            <a:off x="2579400" y="5565600"/>
            <a:ext cx="8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ev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190200" y="54928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si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958120" y="112536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5657040" y="117324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k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008800" y="765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491560" y="81288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917360" y="146052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679840" y="165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599920" y="146052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940760" y="218124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675520" y="2181240"/>
            <a:ext cx="4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959480" y="280368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746800" y="2828880"/>
            <a:ext cx="4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984320" y="34527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2696040" y="3429000"/>
            <a:ext cx="4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740920" y="6681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5733720" y="1316160"/>
            <a:ext cx="8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5761080" y="203688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6651360" y="69228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6651360" y="134136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6877080" y="2060640"/>
            <a:ext cx="75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Picture 22" descr="анамация елочка"/>
          <p:cNvPicPr/>
          <p:nvPr/>
        </p:nvPicPr>
        <p:blipFill>
          <a:blip r:embed="rId1"/>
          <a:stretch/>
        </p:blipFill>
        <p:spPr>
          <a:xfrm>
            <a:off x="3995640" y="2708280"/>
            <a:ext cx="2633760" cy="3317760"/>
          </a:xfrm>
          <a:prstGeom prst="rect">
            <a:avLst/>
          </a:prstGeom>
          <a:ln w="0">
            <a:noFill/>
          </a:ln>
        </p:spPr>
      </p:pic>
      <p:pic>
        <p:nvPicPr>
          <p:cNvPr id="77" name="песенка Алфавит 2.mp3" descr=""/>
          <p:cNvPicPr/>
          <p:nvPr/>
        </p:nvPicPr>
        <p:blipFill>
          <a:blip r:embed="rId2"/>
          <a:stretch/>
        </p:blipFill>
        <p:spPr>
          <a:xfrm>
            <a:off x="2484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65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1814400" y="620640"/>
            <a:ext cx="7329600" cy="547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202120" y="4389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17440" y="465444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448720" y="4654440"/>
            <a:ext cx="6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538360" y="4317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020320" y="494172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581920" y="4941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164680" y="515772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219480" y="431784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3345120" y="465300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249720" y="4941720"/>
            <a:ext cx="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244040" y="4726080"/>
            <a:ext cx="5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bi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4223880" y="494172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7420680" y="515772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2050920" y="1052640"/>
            <a:ext cx="1729080" cy="1439640"/>
          </a:xfrm>
          <a:custGeom>
            <a:avLst/>
            <a:gdLst>
              <a:gd name="textAreaLeft" fmla="*/ 394560 w 1729080"/>
              <a:gd name="textAreaRight" fmla="*/ 1334520 w 1729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4284720" y="692280"/>
            <a:ext cx="1727280" cy="1439640"/>
          </a:xfrm>
          <a:custGeom>
            <a:avLst/>
            <a:gdLst>
              <a:gd name="textAreaLeft" fmla="*/ 394200 w 1727280"/>
              <a:gd name="textAreaRight" fmla="*/ 1333080 w 17272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e1f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You’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372360" y="1052640"/>
            <a:ext cx="1871640" cy="1584360"/>
          </a:xfrm>
          <a:custGeom>
            <a:avLst/>
            <a:gdLst>
              <a:gd name="textAreaLeft" fmla="*/ 427320 w 1871640"/>
              <a:gd name="textAreaRight" fmla="*/ 1444320 w 1871640"/>
              <a:gd name="textAreaTop" fmla="*/ 361440 h 1584360"/>
              <a:gd name="textAreaBottom" fmla="*/ 12229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eb21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y’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1979640" y="2924280"/>
            <a:ext cx="1800360" cy="1584360"/>
          </a:xfrm>
          <a:custGeom>
            <a:avLst/>
            <a:gdLst>
              <a:gd name="textAreaLeft" fmla="*/ 410760 w 1800360"/>
              <a:gd name="textAreaRight" fmla="*/ 1389600 w 1800360"/>
              <a:gd name="textAreaTop" fmla="*/ 361440 h 1584360"/>
              <a:gd name="textAreaBottom" fmla="*/ 12229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15f7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sn’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2987640" y="4653000"/>
            <a:ext cx="1871640" cy="1512720"/>
          </a:xfrm>
          <a:custGeom>
            <a:avLst/>
            <a:gdLst>
              <a:gd name="textAreaLeft" fmla="*/ 427320 w 1871640"/>
              <a:gd name="textAreaRight" fmla="*/ 1444320 w 1871640"/>
              <a:gd name="textAreaTop" fmla="*/ 345240 h 1512720"/>
              <a:gd name="textAreaBottom" fmla="*/ 1167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n’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6877080" y="3284640"/>
            <a:ext cx="1871640" cy="1512720"/>
          </a:xfrm>
          <a:custGeom>
            <a:avLst/>
            <a:gdLst>
              <a:gd name="textAreaLeft" fmla="*/ 427320 w 1871640"/>
              <a:gd name="textAreaRight" fmla="*/ 1444320 w 1871640"/>
              <a:gd name="textAreaTop" fmla="*/ 345240 h 1512720"/>
              <a:gd name="textAreaBottom" fmla="*/ 1167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284720" y="2492280"/>
            <a:ext cx="1800000" cy="1584360"/>
          </a:xfrm>
          <a:custGeom>
            <a:avLst/>
            <a:gdLst>
              <a:gd name="textAreaLeft" fmla="*/ 410760 w 1800000"/>
              <a:gd name="textAreaRight" fmla="*/ 1389240 w 1800000"/>
              <a:gd name="textAreaTop" fmla="*/ 361440 h 1584360"/>
              <a:gd name="textAreaBottom" fmla="*/ 12229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e’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580000" y="4653000"/>
            <a:ext cx="1728720" cy="1512720"/>
          </a:xfrm>
          <a:custGeom>
            <a:avLst/>
            <a:gdLst>
              <a:gd name="textAreaLeft" fmla="*/ 394560 w 1728720"/>
              <a:gd name="textAreaRight" fmla="*/ 1334160 w 1728720"/>
              <a:gd name="textAreaTop" fmla="*/ 345240 h 1512720"/>
              <a:gd name="textAreaBottom" fmla="*/ 1167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e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908000" y="836640"/>
            <a:ext cx="69120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тавьте  am,  is  или   are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763640" y="2060640"/>
            <a:ext cx="5637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  …    friendly</a:t>
            </a:r>
            <a:r>
              <a:rPr b="0" lang="en-US" sz="2800" spc="-1" strike="noStrike">
                <a:solidFill>
                  <a:srgbClr val="15f76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He   …  ki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It  …   bl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It  …  yellow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They   …    ni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33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Comic Sans MS"/>
              </a:rPr>
              <a:t>Mike and Helen   …   mer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ike   …   smar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Helen   …   cu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422800" y="191772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779560" y="234936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635200" y="278136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563920" y="321300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060360" y="36450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768200" y="407664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048120" y="451008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3284640" y="494172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Ink</cp:lastModifiedBy>
  <dcterms:modified xsi:type="dcterms:W3CDTF">2013-01-15T07:41:27Z</dcterms:modified>
  <cp:revision>16</cp:revision>
  <dc:subject/>
  <dc:title>Презентация PowerPoint</dc:title>
</cp:coreProperties>
</file>