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.wmf" ContentType="image/x-wmf"/>
  <Override PartName="/ppt/media/image23.jpeg" ContentType="image/jpeg"/>
  <Override PartName="/ppt/media/image29.png" ContentType="image/png"/>
  <Override PartName="/ppt/media/image28.jpeg" ContentType="image/jpeg"/>
  <Override PartName="/ppt/media/image19.jpeg" ContentType="image/jpeg"/>
  <Override PartName="/ppt/media/image22.png" ContentType="image/png"/>
  <Override PartName="/ppt/media/image21.jpeg" ContentType="image/jpeg"/>
  <Override PartName="/ppt/media/image16.jpeg" ContentType="image/jpeg"/>
  <Override PartName="/ppt/media/image18.jpeg" ContentType="image/jpeg"/>
  <Override PartName="/ppt/media/image17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24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29CF3-6F63-40DD-8E07-1672C736EC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95D76-677D-4ECE-B4A8-C3E61BC3A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DE8B5-E700-46DF-A1BD-61B80495CD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56908-1E7D-4939-B910-1268F4735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C9814-EC63-4187-841C-F3242C38D0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FCBC3-072F-474C-93DB-12FE6A5240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96D0-E13F-458D-9D2B-05A08EACA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0A078D-8064-43F9-BB50-0F6D21220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C93E97-1144-4E60-8460-984CB76A0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72AD1-DC29-451D-9CC6-2151207D43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4BE98-D106-40F4-AA89-76B5EC206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47BD5-BE34-4375-AB7C-2C9C9640F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0BAE3-5584-4572-ACB3-A6C5B5A68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87153-1609-49D3-8D52-6B907A94D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51F1F-DAC4-4592-AF4E-BA07EEBD9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97D3-765A-425C-863A-EBBE031E9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8293-18E8-41CC-B954-7F1A9E992C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5F10B06-9C13-46E1-B41C-2878F26980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55413B-3694-472E-B638-FC2FFBD890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88DA1E9-DB9F-4F24-8AA0-5BFAF960AD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463267D-B16A-4D43-B95D-2CB441CE09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A64C79-50FB-4C6D-8BA2-A5AE15D0EB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C85A-86D5-484A-9B2C-373E2EEE1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D6960E-1223-4FF5-831F-C372F63BDD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B429B9B-54F0-472B-A2ED-96AF024D21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CF3A332-66BA-4528-914D-1C1A8B946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098130F-2F10-44BD-8911-06C9EC64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A16BA28-19B4-48DF-8EC1-35146EEC6E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65B2EE-0324-4B5E-827E-058DCBAE9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4078CE-FB78-43BE-94A9-671801F60C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10CAE7-0A55-40BB-9E0F-03A608E48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27E943-47C8-44C9-AA80-21B92C270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0D442E-5CE8-4C1C-93F2-34B748FE8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AFB54-324A-4793-9EF6-EFD4A6333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A94A20-2F98-4941-BA18-7428B7B71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22C35D-C096-4137-9EA3-72918D8EB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2BDDDA-CFFF-473E-A5D0-5997CB377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9692036-A834-4EAF-8CAF-419529A77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709889E-8FC6-4574-831C-646477964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37B3682-17D4-4A74-A558-38511F00B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605CC-60A9-4820-B564-4D99E2CF8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AF18C5-2182-4531-A770-1B750E160C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94CC293-0846-465B-9FED-05C13FA9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D061F45-74E3-4CD0-8942-F628CB8CD6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0B639-6384-4CA9-A0AC-7305EC82A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DB8F538-46C7-411F-97B8-E5EAB649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F99C8F5-049B-4E07-87C3-57FA90AD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404CDDF-3204-4170-AAF4-80ABBCC9E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1B28C58-4A4C-4AD3-974A-70D6854C1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123070D-FDBC-40CF-A760-8776B667C9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F0E4C92-8D60-4F74-8173-DDC430706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0AAD8FF-00A9-4080-A02C-7FA7486F1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B813EE6-5142-4679-AD62-1FE0035CA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A6A2A2-68AF-4AA0-BFB5-21F6D5236E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0E19F4F-25E0-42D9-8ABB-1870744581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2686-1D79-4C4D-8C55-515B52ACB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E8BBCAC-5EC4-4FBD-BB2A-CB035F6BB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F5C399E-4B8E-4A74-B43C-82EE9FB2FC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69BAA9-834D-4FB9-B6EF-99780576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CB1997-DC7B-4F0C-A44A-58373AB475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F223C577-0EF0-4D7D-AB15-4C12BCF17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337AC3C-D481-495B-8910-4E92E0F7D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3FCC4B7-02EF-4A8A-920B-234D550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CCB3099-AE94-4518-9651-EBFE2587C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EF27FF-9EA2-4921-94D3-9B4C7AECE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51C614-E5D0-44A9-858F-142177432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232DA-9CD5-46D0-BC9F-C2E15DF7F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6909BCF-28CC-4E34-81A6-E21F0D80B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86C5AA7-AB6B-4D87-A928-40B0FFA306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1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2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DE49E8A-3959-4B40-9876-31A679FF6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3373C37-024C-4CA3-B75B-DA1F15038E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 type="subTitle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7AE6933-7B0D-4F16-B3C2-8432919D0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CBD3BE4-D7F7-4BD5-96E0-8B3EAF770D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26469D57-4884-4D31-9ABB-4AE152968A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01E1C12-F3B7-439A-8DCD-D4EB83CE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4674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E2E16DF-E38C-4EA2-BA1F-4E39C1E266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27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8915E5-90E8-4923-A3CA-D7D1F23D9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57C44-4165-4BDD-8907-9EE951633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D0C1A80-8BE7-41B2-9176-36CECDD623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ECB115AC-7731-4B40-997F-873D48C95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F04C3811-52DF-4101-94D0-ECA4ED13E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4283280" y="414612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90A0A7-E61B-4C40-AB68-551D8A500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298188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5506920" y="160020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8" name="PlaceHolder 5"/>
          <p:cNvSpPr>
            <a:spLocks noGrp="1"/>
          </p:cNvSpPr>
          <p:nvPr>
            <p:ph/>
          </p:nvPr>
        </p:nvSpPr>
        <p:spPr>
          <a:xfrm>
            <a:off x="45684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49" name="PlaceHolder 6"/>
          <p:cNvSpPr>
            <a:spLocks noGrp="1"/>
          </p:cNvSpPr>
          <p:nvPr>
            <p:ph/>
          </p:nvPr>
        </p:nvSpPr>
        <p:spPr>
          <a:xfrm>
            <a:off x="298188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50" name="PlaceHolder 7"/>
          <p:cNvSpPr>
            <a:spLocks noGrp="1"/>
          </p:cNvSpPr>
          <p:nvPr>
            <p:ph/>
          </p:nvPr>
        </p:nvSpPr>
        <p:spPr>
          <a:xfrm>
            <a:off x="5506920" y="4146120"/>
            <a:ext cx="240444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F3976F2-D3F6-4339-9C10-50246AD046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283280" y="1600200"/>
            <a:ext cx="364392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6840" y="4146120"/>
            <a:ext cx="7467480" cy="232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7A4C-751B-4EE2-908F-B161BA3B3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5E2D2-DF47-411E-865A-1ED731791E35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ая соединительная линия 25"/>
          <p:cNvSpPr/>
          <p:nvPr/>
        </p:nvSpPr>
        <p:spPr>
          <a:xfrm>
            <a:off x="911376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Прямоугольник 26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7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Овал 28"/>
          <p:cNvSpPr/>
          <p:nvPr/>
        </p:nvSpPr>
        <p:spPr>
          <a:xfrm>
            <a:off x="1309680" y="4867200"/>
            <a:ext cx="64152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Овал 29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Овал 30"/>
          <p:cNvSpPr/>
          <p:nvPr/>
        </p:nvSpPr>
        <p:spPr>
          <a:xfrm>
            <a:off x="1663560" y="578808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Овал 31"/>
          <p:cNvSpPr/>
          <p:nvPr/>
        </p:nvSpPr>
        <p:spPr>
          <a:xfrm>
            <a:off x="1905120" y="4495680"/>
            <a:ext cx="365040" cy="36540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 rot="5400000">
            <a:off x="7764480" y="1174680"/>
            <a:ext cx="22860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 rot="5400000">
            <a:off x="7076880" y="418140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13251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B2C392-4991-48E2-82E0-D33C28A5A884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8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E16CC-237E-43D2-9961-49992CDEE86B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ftr" idx="9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575f6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Прямоугольник 12"/>
          <p:cNvSpPr/>
          <p:nvPr/>
        </p:nvSpPr>
        <p:spPr>
          <a:xfrm>
            <a:off x="380880" y="0"/>
            <a:ext cx="609840" cy="6858000"/>
          </a:xfrm>
          <a:prstGeom prst="rect">
            <a:avLst/>
          </a:prstGeom>
          <a:solidFill>
            <a:srgbClr val="fec3ae">
              <a:alpha val="5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14"/>
          <p:cNvSpPr/>
          <p:nvPr/>
        </p:nvSpPr>
        <p:spPr>
          <a:xfrm>
            <a:off x="276120" y="0"/>
            <a:ext cx="104760" cy="6858000"/>
          </a:xfrm>
          <a:prstGeom prst="rect">
            <a:avLst/>
          </a:prstGeom>
          <a:solidFill>
            <a:srgbClr val="ffd9ce">
              <a:alpha val="3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16"/>
          <p:cNvSpPr/>
          <p:nvPr/>
        </p:nvSpPr>
        <p:spPr>
          <a:xfrm>
            <a:off x="990720" y="0"/>
            <a:ext cx="182520" cy="6858000"/>
          </a:xfrm>
          <a:prstGeom prst="rect">
            <a:avLst/>
          </a:prstGeom>
          <a:solidFill>
            <a:srgbClr val="ffd9ce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17"/>
          <p:cNvSpPr/>
          <p:nvPr/>
        </p:nvSpPr>
        <p:spPr>
          <a:xfrm>
            <a:off x="1141560" y="0"/>
            <a:ext cx="230040" cy="6858000"/>
          </a:xfrm>
          <a:prstGeom prst="rect">
            <a:avLst/>
          </a:prstGeom>
          <a:solidFill>
            <a:srgbClr val="ffede8">
              <a:alpha val="7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ая соединительная линия 18"/>
          <p:cNvSpPr/>
          <p:nvPr/>
        </p:nvSpPr>
        <p:spPr>
          <a:xfrm>
            <a:off x="106200" y="0"/>
            <a:ext cx="0" cy="6858000"/>
          </a:xfrm>
          <a:prstGeom prst="line">
            <a:avLst/>
          </a:prstGeom>
          <a:ln w="57240">
            <a:solidFill>
              <a:srgbClr val="fec3ae">
                <a:alpha val="7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ая соединительная линия 19"/>
          <p:cNvSpPr/>
          <p:nvPr/>
        </p:nvSpPr>
        <p:spPr>
          <a:xfrm>
            <a:off x="914400" y="0"/>
            <a:ext cx="0" cy="6858000"/>
          </a:xfrm>
          <a:prstGeom prst="line">
            <a:avLst/>
          </a:prstGeom>
          <a:ln w="57240">
            <a:solidFill>
              <a:srgbClr val="ffede8">
                <a:alpha val="8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ая соединительная линия 20"/>
          <p:cNvSpPr/>
          <p:nvPr/>
        </p:nvSpPr>
        <p:spPr>
          <a:xfrm>
            <a:off x="853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3"/>
          <p:cNvSpPr/>
          <p:nvPr/>
        </p:nvSpPr>
        <p:spPr>
          <a:xfrm>
            <a:off x="1727280" y="0"/>
            <a:ext cx="0" cy="6858000"/>
          </a:xfrm>
          <a:prstGeom prst="line">
            <a:avLst/>
          </a:prstGeom>
          <a:ln w="28440">
            <a:solidFill>
              <a:srgbClr val="fec3ae">
                <a:alpha val="82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Прямая соединительная линия 24"/>
          <p:cNvSpPr/>
          <p:nvPr/>
        </p:nvSpPr>
        <p:spPr>
          <a:xfrm>
            <a:off x="1066680" y="0"/>
            <a:ext cx="0" cy="6858000"/>
          </a:xfrm>
          <a:prstGeom prst="line">
            <a:avLst/>
          </a:prstGeom>
          <a:ln w="93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25"/>
          <p:cNvSpPr/>
          <p:nvPr/>
        </p:nvSpPr>
        <p:spPr>
          <a:xfrm>
            <a:off x="1219320" y="0"/>
            <a:ext cx="75960" cy="6858000"/>
          </a:xfrm>
          <a:prstGeom prst="rect">
            <a:avLst/>
          </a:prstGeom>
          <a:solidFill>
            <a:srgbClr val="fec3ae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Овал 26"/>
          <p:cNvSpPr/>
          <p:nvPr/>
        </p:nvSpPr>
        <p:spPr>
          <a:xfrm>
            <a:off x="609480" y="3429000"/>
            <a:ext cx="1295640" cy="12952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Овал 27"/>
          <p:cNvSpPr/>
          <p:nvPr/>
        </p:nvSpPr>
        <p:spPr>
          <a:xfrm>
            <a:off x="1324080" y="4867200"/>
            <a:ext cx="642960" cy="64152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Овал 28"/>
          <p:cNvSpPr/>
          <p:nvPr/>
        </p:nvSpPr>
        <p:spPr>
          <a:xfrm>
            <a:off x="1090440" y="5500800"/>
            <a:ext cx="138240" cy="1364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Овал 29"/>
          <p:cNvSpPr/>
          <p:nvPr/>
        </p:nvSpPr>
        <p:spPr>
          <a:xfrm>
            <a:off x="1663560" y="5791320"/>
            <a:ext cx="274680" cy="27468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Овал 30"/>
          <p:cNvSpPr/>
          <p:nvPr/>
        </p:nvSpPr>
        <p:spPr>
          <a:xfrm>
            <a:off x="1879560" y="4479840"/>
            <a:ext cx="365040" cy="36504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ая соединительная линия 31"/>
          <p:cNvSpPr/>
          <p:nvPr/>
        </p:nvSpPr>
        <p:spPr>
          <a:xfrm>
            <a:off x="90979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39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fff39d"/>
              </a:solidFill>
              <a:latin typeface="Century Schoolbook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ffffff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ffffff"/>
              </a:solidFill>
              <a:latin typeface="Century Schoolbook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dt" idx="10"/>
          </p:nvPr>
        </p:nvSpPr>
        <p:spPr>
          <a:xfrm rot="5400000">
            <a:off x="7762680" y="1169640"/>
            <a:ext cx="22860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ftr" idx="11"/>
          </p:nvPr>
        </p:nvSpPr>
        <p:spPr>
          <a:xfrm rot="5400000">
            <a:off x="7076880" y="4178160"/>
            <a:ext cx="365760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sldNum" idx="12"/>
          </p:nvPr>
        </p:nvSpPr>
        <p:spPr>
          <a:xfrm>
            <a:off x="1339560" y="4929120"/>
            <a:ext cx="609480" cy="51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FB58E-4F8D-4CD8-8EA8-6BC9106A92FE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Прямая соединительная линия 15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Прямая соединительная линия 6"/>
          <p:cNvSpPr/>
          <p:nvPr/>
        </p:nvSpPr>
        <p:spPr>
          <a:xfrm>
            <a:off x="76320" y="0"/>
            <a:ext cx="0" cy="6858000"/>
          </a:xfrm>
          <a:prstGeom prst="line">
            <a:avLst/>
          </a:prstGeom>
          <a:ln w="5724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Прямая соединительная линия 8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оугольник 9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Прямая соединительная линия 10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Овал 11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sldNum" idx="14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50EFF5-930E-4E15-9C04-06DFBE82119C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ftr" idx="15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>
                <a:alpha val="9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ая соединительная линия 14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ая соединительная линия 16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ая соединительная линия 17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1908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18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>
              <a:alpha val="8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19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Овал 20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 type="dt" idx="16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 type="sldNum" idx="17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EF3A6-35A6-4AB3-A028-D8A1E683D4A2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5"/>
          <p:cNvSpPr>
            <a:spLocks noGrp="1"/>
          </p:cNvSpPr>
          <p:nvPr>
            <p:ph type="ftr" idx="18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Прямая соединительная линия 12"/>
          <p:cNvSpPr/>
          <p:nvPr/>
        </p:nvSpPr>
        <p:spPr>
          <a:xfrm>
            <a:off x="87631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Овал 14"/>
          <p:cNvSpPr/>
          <p:nvPr/>
        </p:nvSpPr>
        <p:spPr>
          <a:xfrm>
            <a:off x="8156520" y="5715000"/>
            <a:ext cx="549360" cy="549360"/>
          </a:xfrm>
          <a:prstGeom prst="ellipse">
            <a:avLst/>
          </a:prstGeom>
          <a:solidFill>
            <a:srgbClr val="fe863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Прямая соединительная линия 16"/>
          <p:cNvSpPr/>
          <p:nvPr/>
        </p:nvSpPr>
        <p:spPr>
          <a:xfrm>
            <a:off x="8991720" y="0"/>
            <a:ext cx="0" cy="685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7"/>
          <p:cNvSpPr/>
          <p:nvPr/>
        </p:nvSpPr>
        <p:spPr>
          <a:xfrm>
            <a:off x="8839080" y="0"/>
            <a:ext cx="304920" cy="6858000"/>
          </a:xfrm>
          <a:prstGeom prst="rect">
            <a:avLst/>
          </a:prstGeom>
          <a:solidFill>
            <a:srgbClr val="fec3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ая соединительная линия 18"/>
          <p:cNvSpPr/>
          <p:nvPr/>
        </p:nvSpPr>
        <p:spPr>
          <a:xfrm>
            <a:off x="8915400" y="0"/>
            <a:ext cx="0" cy="6858000"/>
          </a:xfrm>
          <a:prstGeom prst="line">
            <a:avLst/>
          </a:prstGeom>
          <a:ln w="936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ая соединительная линия 19"/>
          <p:cNvSpPr/>
          <p:nvPr/>
        </p:nvSpPr>
        <p:spPr>
          <a:xfrm>
            <a:off x="6248520" y="0"/>
            <a:ext cx="0" cy="6858000"/>
          </a:xfrm>
          <a:prstGeom prst="line">
            <a:avLst/>
          </a:prstGeom>
          <a:ln w="38160">
            <a:solidFill>
              <a:srgbClr val="fec3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ая соединительная линия 20"/>
          <p:cNvSpPr/>
          <p:nvPr/>
        </p:nvSpPr>
        <p:spPr>
          <a:xfrm>
            <a:off x="6192720" y="0"/>
            <a:ext cx="0" cy="6858000"/>
          </a:xfrm>
          <a:prstGeom prst="line">
            <a:avLst/>
          </a:prstGeom>
          <a:ln w="12600">
            <a:solidFill>
              <a:srgbClr val="fe86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575f6d"/>
                </a:solidFill>
                <a:latin typeface="Century Schoolbook"/>
              </a:rPr>
              <a:t>Click to edit the title text format</a:t>
            </a: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1" marL="639720" indent="-272880">
              <a:spcBef>
                <a:spcPts val="601"/>
              </a:spcBef>
              <a:buClr>
                <a:srgbClr val="fe863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2" marL="914400" indent="-182520">
              <a:spcBef>
                <a:spcPts val="601"/>
              </a:spcBef>
              <a:buClr>
                <a:srgbClr val="e0752f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3" marL="1187280" indent="-182520">
              <a:spcBef>
                <a:spcPts val="601"/>
              </a:spcBef>
              <a:buClr>
                <a:srgbClr val="fec3ae"/>
              </a:buClr>
              <a:buSzPct val="6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4" marL="1461960" indent="-182520">
              <a:spcBef>
                <a:spcPts val="601"/>
              </a:spcBef>
              <a:buClr>
                <a:srgbClr val="bdcae9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5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lvl="6" marL="1461960" indent="-182520">
              <a:spcBef>
                <a:spcPts val="601"/>
              </a:spcBef>
              <a:buClr>
                <a:srgbClr val="000000"/>
              </a:buClr>
              <a:buSzPct val="68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entury Schoolbook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 type="dt" idx="19"/>
          </p:nvPr>
        </p:nvSpPr>
        <p:spPr>
          <a:xfrm rot="5400000">
            <a:off x="7589160" y="1081440"/>
            <a:ext cx="201132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 type="sldNum" idx="20"/>
          </p:nvPr>
        </p:nvSpPr>
        <p:spPr>
          <a:xfrm>
            <a:off x="8129520" y="5734080"/>
            <a:ext cx="60984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C0D0E6-5CD7-40A2-A318-3C6C066F7313}" type="slidenum">
              <a:rPr b="1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 type="ftr" idx="21"/>
          </p:nvPr>
        </p:nvSpPr>
        <p:spPr>
          <a:xfrm rot="5400000">
            <a:off x="6989760" y="3737160"/>
            <a:ext cx="3200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wm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pn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pn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20.jpe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image" Target="../media/image27.jpeg"/><Relationship Id="rId7" Type="http://schemas.openxmlformats.org/officeDocument/2006/relationships/image" Target="../media/image28.jpeg"/><Relationship Id="rId8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7"/>
          <p:cNvSpPr/>
          <p:nvPr/>
        </p:nvSpPr>
        <p:spPr>
          <a:xfrm>
            <a:off x="685800" y="917640"/>
            <a:ext cx="8153280" cy="220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7200" spc="-1" strike="noStrike">
                <a:solidFill>
                  <a:srgbClr val="004600"/>
                </a:solidFill>
                <a:latin typeface="Book Antiqua"/>
              </a:rPr>
              <a:t>«Профилактика гриппа»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10"/>
          <p:cNvSpPr/>
          <p:nvPr/>
        </p:nvSpPr>
        <p:spPr>
          <a:xfrm>
            <a:off x="3581280" y="5105520"/>
            <a:ext cx="3276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3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8028000" y="0"/>
            <a:ext cx="1116000" cy="103500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  <p:pic>
        <p:nvPicPr>
          <p:cNvPr id="354" name="Picture 12" descr=""/>
          <p:cNvPicPr/>
          <p:nvPr/>
        </p:nvPicPr>
        <p:blipFill>
          <a:blip r:embed="rId2"/>
          <a:stretch/>
        </p:blipFill>
        <p:spPr>
          <a:xfrm>
            <a:off x="838080" y="3124080"/>
            <a:ext cx="2114640" cy="3353040"/>
          </a:xfrm>
          <a:prstGeom prst="rect">
            <a:avLst/>
          </a:prstGeom>
          <a:ln w="0">
            <a:noFill/>
          </a:ln>
        </p:spPr>
      </p:pic>
      <p:pic>
        <p:nvPicPr>
          <p:cNvPr id="355" name="Рисунок 8" descr="5.jpg"/>
          <p:cNvPicPr/>
          <p:nvPr/>
        </p:nvPicPr>
        <p:blipFill>
          <a:blip r:embed="rId3"/>
          <a:stretch/>
        </p:blipFill>
        <p:spPr>
          <a:xfrm>
            <a:off x="6934320" y="3200400"/>
            <a:ext cx="1584360" cy="175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Прямоугольник 3"/>
          <p:cNvSpPr/>
          <p:nvPr/>
        </p:nvSpPr>
        <p:spPr>
          <a:xfrm>
            <a:off x="457200" y="762120"/>
            <a:ext cx="3657600" cy="236196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публике Татарстан в сезон 2015-2016 гг. привито  1039640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Стрелка вправо с вырезом 4"/>
          <p:cNvSpPr/>
          <p:nvPr/>
        </p:nvSpPr>
        <p:spPr>
          <a:xfrm>
            <a:off x="4191120" y="137160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5"/>
          <p:cNvSpPr/>
          <p:nvPr/>
        </p:nvSpPr>
        <p:spPr>
          <a:xfrm>
            <a:off x="5715000" y="685800"/>
            <a:ext cx="3124080" cy="259092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- 27,3% от численности насе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6"/>
          <p:cNvSpPr/>
          <p:nvPr/>
        </p:nvSpPr>
        <p:spPr>
          <a:xfrm>
            <a:off x="5638680" y="3657600"/>
            <a:ext cx="3200400" cy="220968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хват – 31,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Стрелка вправо с вырезом 7"/>
          <p:cNvSpPr/>
          <p:nvPr/>
        </p:nvSpPr>
        <p:spPr>
          <a:xfrm>
            <a:off x="4114800" y="4495680"/>
            <a:ext cx="1434960" cy="789120"/>
          </a:xfrm>
          <a:custGeom>
            <a:avLst/>
            <a:gdLst>
              <a:gd name="textAreaLeft" fmla="*/ 197280 w 1434960"/>
              <a:gd name="textAreaRight" fmla="*/ 1237680 w 1434960"/>
              <a:gd name="textAreaTop" fmla="*/ 197280 h 789120"/>
              <a:gd name="textAreaBottom" fmla="*/ 591840 h 78912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15662" y="5400"/>
                </a:lnTo>
                <a:lnTo>
                  <a:pt x="15662" y="0"/>
                </a:lnTo>
                <a:lnTo>
                  <a:pt x="21600" y="10800"/>
                </a:lnTo>
                <a:lnTo>
                  <a:pt x="15662" y="21600"/>
                </a:lnTo>
                <a:lnTo>
                  <a:pt x="15662" y="16200"/>
                </a:lnTo>
                <a:lnTo>
                  <a:pt x="0" y="16200"/>
                </a:lnTo>
                <a:lnTo>
                  <a:pt x="2969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Прямоугольник 8"/>
          <p:cNvSpPr/>
          <p:nvPr/>
        </p:nvSpPr>
        <p:spPr>
          <a:xfrm>
            <a:off x="457200" y="3809880"/>
            <a:ext cx="3429000" cy="2286000"/>
          </a:xfrm>
          <a:prstGeom prst="rect">
            <a:avLst/>
          </a:prstGeom>
          <a:solidFill>
            <a:srgbClr val="fe8637"/>
          </a:solidFill>
          <a:ln w="25560">
            <a:solidFill>
              <a:srgbClr val="bb612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оссийской Федерации в сезон 2015-2016 гг. привито  44,9 млн. человек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ИЕ ПРИЗНАКИ ГРИППА:</a:t>
            </a:r>
            <a:br>
              <a:rPr sz="3600"/>
            </a:br>
            <a:endParaRPr b="0" lang="en-US" sz="36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456840" y="1599840"/>
            <a:ext cx="426708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3000"/>
          </a:bodyPr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езкое повышение температуры тела (выше 38°С) без каких- либо сопутствующих симптомов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головная бо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мыщца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 в горле, кашель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асморк, заложенность нос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вота и диарея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144360" indent="-1443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64" name="Picture 4" descr="\\fs\Отделы\ЭПИДНАДЗОР\Василенко-ЯО\ГРИПП\МЕРОПРИЯТИЯ_ГРИПП\разьяснит работа-НАСЕЛЕНИЕ сезон 16-17 гг\В ТО письмо-4.08.16 г\migren-i-temperatura.jpg"/>
          <p:cNvPicPr/>
          <p:nvPr/>
        </p:nvPicPr>
        <p:blipFill>
          <a:blip r:embed="rId1"/>
          <a:stretch/>
        </p:blipFill>
        <p:spPr>
          <a:xfrm>
            <a:off x="4648320" y="1066680"/>
            <a:ext cx="1904760" cy="1168560"/>
          </a:xfrm>
          <a:prstGeom prst="rect">
            <a:avLst/>
          </a:prstGeom>
          <a:ln w="0">
            <a:noFill/>
          </a:ln>
        </p:spPr>
      </p:pic>
      <p:pic>
        <p:nvPicPr>
          <p:cNvPr id="365" name="Picture 5" descr="\\fs\Отделы\ЭПИДНАДЗОР\Василенко-ЯО\ГРИПП\МЕРОПРИЯТИЯ_ГРИПП\разьяснит работа-НАСЕЛЕНИЕ сезон 16-17 гг\В ТО письмо-4.08.16 г\goglovnaya_bol.jpg"/>
          <p:cNvPicPr/>
          <p:nvPr/>
        </p:nvPicPr>
        <p:blipFill>
          <a:blip r:embed="rId2"/>
          <a:stretch/>
        </p:blipFill>
        <p:spPr>
          <a:xfrm>
            <a:off x="6858000" y="1066680"/>
            <a:ext cx="1447920" cy="968400"/>
          </a:xfrm>
          <a:prstGeom prst="rect">
            <a:avLst/>
          </a:prstGeom>
          <a:ln w="0">
            <a:noFill/>
          </a:ln>
        </p:spPr>
      </p:pic>
      <p:pic>
        <p:nvPicPr>
          <p:cNvPr id="366" name="Picture 6" descr="\\fs\Отделы\ЭПИДНАДЗОР\Василенко-ЯО\ГРИПП\МЕРОПРИЯТИЯ_ГРИПП\разьяснит работа-НАСЕЛЕНИЕ сезон 16-17 гг\В ТО письмо-4.08.16 г\oznob-i-potlivost-bez-temperatury.jpg"/>
          <p:cNvPicPr/>
          <p:nvPr/>
        </p:nvPicPr>
        <p:blipFill>
          <a:blip r:embed="rId3"/>
          <a:stretch/>
        </p:blipFill>
        <p:spPr>
          <a:xfrm>
            <a:off x="6477120" y="2286000"/>
            <a:ext cx="1981080" cy="1185840"/>
          </a:xfrm>
          <a:prstGeom prst="rect">
            <a:avLst/>
          </a:prstGeom>
          <a:ln w="0">
            <a:noFill/>
          </a:ln>
        </p:spPr>
      </p:pic>
      <p:pic>
        <p:nvPicPr>
          <p:cNvPr id="367" name="Picture 7" descr="\\fs\Отделы\ЭПИДНАДЗОР\Василенко-ЯО\ГРИПП\МЕРОПРИЯТИЯ_ГРИПП\разьяснит работа-НАСЕЛЕНИЕ сезон 16-17 гг\В ТО письмо-4.08.16 г\1_142.jpg"/>
          <p:cNvPicPr/>
          <p:nvPr/>
        </p:nvPicPr>
        <p:blipFill>
          <a:blip r:embed="rId4"/>
          <a:stretch/>
        </p:blipFill>
        <p:spPr>
          <a:xfrm>
            <a:off x="5943600" y="3581280"/>
            <a:ext cx="2440080" cy="1830600"/>
          </a:xfrm>
          <a:prstGeom prst="rect">
            <a:avLst/>
          </a:prstGeom>
          <a:ln w="0">
            <a:noFill/>
          </a:ln>
        </p:spPr>
      </p:pic>
      <p:pic>
        <p:nvPicPr>
          <p:cNvPr id="368" name="Picture 8" descr="\\fs\Отделы\ЭПИДНАДЗОР\Василенко-ЯО\ГРИПП\МЕРОПРИЯТИЯ_ГРИПП\разьяснит работа-НАСЕЛЕНИЕ сезон 16-17 гг\В ТО письмо-4.08.16 г\55000.jpg"/>
          <p:cNvPicPr/>
          <p:nvPr/>
        </p:nvPicPr>
        <p:blipFill>
          <a:blip r:embed="rId5"/>
          <a:stretch/>
        </p:blipFill>
        <p:spPr>
          <a:xfrm>
            <a:off x="4572000" y="2514600"/>
            <a:ext cx="1698480" cy="192420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9" descr="\\fs\Отделы\ЭПИДНАДЗОР\Василенко-ЯО\ГРИПП\МЕРОПРИЯТИЯ_ГРИПП\разьяснит работа-НАСЕЛЕНИЕ сезон 16-17 гг\В ТО письмо-4.08.16 г\kak-lechit-otravlenie-u-detej-rvota-i-temperatura-11.jpg"/>
          <p:cNvPicPr/>
          <p:nvPr/>
        </p:nvPicPr>
        <p:blipFill>
          <a:blip r:embed="rId6"/>
          <a:stretch/>
        </p:blipFill>
        <p:spPr>
          <a:xfrm>
            <a:off x="4419720" y="4724280"/>
            <a:ext cx="1523880" cy="1764000"/>
          </a:xfrm>
          <a:prstGeom prst="rect">
            <a:avLst/>
          </a:prstGeom>
          <a:ln w="0">
            <a:noFill/>
          </a:ln>
        </p:spPr>
      </p:pic>
      <p:sp>
        <p:nvSpPr>
          <p:cNvPr id="370" name="Прямоугольник 11"/>
          <p:cNvSpPr/>
          <p:nvPr/>
        </p:nvSpPr>
        <p:spPr>
          <a:xfrm>
            <a:off x="685800" y="61722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057040" y="228600"/>
            <a:ext cx="57150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МОЖНО ЗАРАЗИТЬСЯ ВИРУСОМ ГРИППА И ГДЕ:</a:t>
            </a:r>
            <a:endParaRPr b="0" lang="en-US" sz="32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 type="subTitle"/>
          </p:nvPr>
        </p:nvSpPr>
        <p:spPr>
          <a:xfrm>
            <a:off x="380880" y="99036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575f6d"/>
                </a:solidFill>
                <a:latin typeface="Century Schoolbook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больным человеком;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контакте с человеком с признаками гриппа на расстоянии до 2 м; 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могут заразиться в детском саду и школе, взрослые в общественных местах (театры, торговые центры).</a:t>
            </a: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73" name="Picture 9" descr="http://www.factroom.ru/facts/wp-content/uploads/2014/04/454-620x413.jpg"/>
          <p:cNvPicPr/>
          <p:nvPr/>
        </p:nvPicPr>
        <p:blipFill>
          <a:blip r:embed="rId1"/>
          <a:stretch/>
        </p:blipFill>
        <p:spPr>
          <a:xfrm>
            <a:off x="762120" y="4419720"/>
            <a:ext cx="3276360" cy="2182680"/>
          </a:xfrm>
          <a:prstGeom prst="rect">
            <a:avLst/>
          </a:prstGeom>
          <a:ln w="0">
            <a:noFill/>
          </a:ln>
        </p:spPr>
      </p:pic>
      <p:pic>
        <p:nvPicPr>
          <p:cNvPr id="374" name="Picture 11" descr="http://s25.uo15.ru/wp-content/uploads/2015/09/%D0%93%D0%98%D0%91%D0%94%D0%94_2015_2.jpg"/>
          <p:cNvPicPr/>
          <p:nvPr/>
        </p:nvPicPr>
        <p:blipFill>
          <a:blip r:embed="rId2"/>
          <a:stretch/>
        </p:blipFill>
        <p:spPr>
          <a:xfrm>
            <a:off x="5181480" y="2438280"/>
            <a:ext cx="3522960" cy="1981440"/>
          </a:xfrm>
          <a:prstGeom prst="rect">
            <a:avLst/>
          </a:prstGeom>
          <a:ln w="0">
            <a:noFill/>
          </a:ln>
        </p:spPr>
      </p:pic>
      <p:pic>
        <p:nvPicPr>
          <p:cNvPr id="375" name="Picture 15" descr="http://las-vegas.su/wp-content/uploads/2015/06/detskie-parovoziki.png"/>
          <p:cNvPicPr/>
          <p:nvPr/>
        </p:nvPicPr>
        <p:blipFill>
          <a:blip r:embed="rId3"/>
          <a:stretch/>
        </p:blipFill>
        <p:spPr>
          <a:xfrm>
            <a:off x="5029200" y="4724280"/>
            <a:ext cx="3645000" cy="1600200"/>
          </a:xfrm>
          <a:prstGeom prst="rect">
            <a:avLst/>
          </a:prstGeom>
          <a:ln w="0">
            <a:noFill/>
          </a:ln>
        </p:spPr>
      </p:pic>
      <p:pic>
        <p:nvPicPr>
          <p:cNvPr id="376" name="Picture 8" descr="\\fs\Отделы\ЭПИДНАДЗОР\Василенко-ЯО\ГРИПП\МЕРОПРИЯТИЯ_ГРИПП\разьяснит работа-НАСЕЛЕНИЕ сезон 16-17 гг\В ТО письмо-4.08.16 г\198340.jpg"/>
          <p:cNvPicPr/>
          <p:nvPr/>
        </p:nvPicPr>
        <p:blipFill>
          <a:blip r:embed="rId4"/>
          <a:stretch/>
        </p:blipFill>
        <p:spPr>
          <a:xfrm>
            <a:off x="685800" y="2286000"/>
            <a:ext cx="3581280" cy="2043000"/>
          </a:xfrm>
          <a:prstGeom prst="rect">
            <a:avLst/>
          </a:prstGeom>
          <a:ln w="0">
            <a:noFill/>
          </a:ln>
        </p:spPr>
      </p:pic>
      <p:sp>
        <p:nvSpPr>
          <p:cNvPr id="377" name="Прямоугольник 9"/>
          <p:cNvSpPr/>
          <p:nvPr/>
        </p:nvSpPr>
        <p:spPr>
          <a:xfrm>
            <a:off x="4114800" y="639612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27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К УБЕРЕЧЬСЯ ОТ ЗАРАЖЕНИЯ ГРИППОМ:</a:t>
            </a:r>
            <a:br>
              <a:rPr sz="2700"/>
            </a:br>
            <a:endParaRPr b="0" lang="en-US" sz="27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457200"/>
            <a:ext cx="3657600" cy="640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- </a:t>
            </a: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делать прививку против гриппа!</a:t>
            </a:r>
            <a:endParaRPr b="0" lang="en-US" sz="28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entury Schoolbook"/>
              </a:rPr>
              <a:t>-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граничить посещения мест большого скопления люде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крывать нос и рот при чихании или кашле одноразовой салфеткой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 встрече с человеком с признаками гриппа, держитесь от него на расстоянии &gt; 2 м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часто проветривать помещ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лажная уборка помещений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олноценно питаться, высыпаться, избегать переутомления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не прикасаться к глазам, носу или рту немытыми руками;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держиваться правил личной гигиены, часто мыть руки с мылом.</a:t>
            </a:r>
            <a:endParaRPr b="0" lang="en-US" sz="16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80" name="Picture 2" descr="\\fs\Отделы\ЭПИДНАДЗОР\Василенко-ЯО\ГРИПП\МЕРОПРИЯТИЯ_ГРИПП\разьяснит работа-НАСЕЛЕНИЕ сезон 16-17 гг\В ТО письмо-4.08.16 г\depositphotos_11078500-in-the-crowd.jpg"/>
          <p:cNvPicPr/>
          <p:nvPr/>
        </p:nvPicPr>
        <p:blipFill>
          <a:blip r:embed="rId1"/>
          <a:stretch/>
        </p:blipFill>
        <p:spPr>
          <a:xfrm>
            <a:off x="6477120" y="533520"/>
            <a:ext cx="2212920" cy="1676160"/>
          </a:xfrm>
          <a:prstGeom prst="rect">
            <a:avLst/>
          </a:prstGeom>
          <a:ln w="0">
            <a:noFill/>
          </a:ln>
        </p:spPr>
      </p:pic>
      <p:pic>
        <p:nvPicPr>
          <p:cNvPr id="381" name="Picture 3" descr="\\fs\Отделы\ЭПИДНАДЗОР\Василенко-ЯО\ГРИПП\МЕРОПРИЯТИЯ_ГРИПП\разьяснит работа-НАСЕЛЕНИЕ сезон 16-17 гг\В ТО письмо-4.08.16 г\i.jpg"/>
          <p:cNvPicPr/>
          <p:nvPr/>
        </p:nvPicPr>
        <p:blipFill>
          <a:blip r:embed="rId2"/>
          <a:stretch/>
        </p:blipFill>
        <p:spPr>
          <a:xfrm>
            <a:off x="4419720" y="609480"/>
            <a:ext cx="1523880" cy="1503360"/>
          </a:xfrm>
          <a:prstGeom prst="rect">
            <a:avLst/>
          </a:prstGeom>
          <a:ln w="0">
            <a:noFill/>
          </a:ln>
        </p:spPr>
      </p:pic>
      <p:pic>
        <p:nvPicPr>
          <p:cNvPr id="382" name="Picture 4" descr="\\fs\Отделы\ЭПИДНАДЗОР\Василенко-ЯО\ГРИПП\МЕРОПРИЯТИЯ_ГРИПП\разьяснит работа-НАСЕЛЕНИЕ сезон 16-17 гг\В ТО письмо-4.08.16 г\kak-predupredit-gripp_11_1.jpeg"/>
          <p:cNvPicPr/>
          <p:nvPr/>
        </p:nvPicPr>
        <p:blipFill>
          <a:blip r:embed="rId3"/>
          <a:stretch/>
        </p:blipFill>
        <p:spPr>
          <a:xfrm>
            <a:off x="6248520" y="2286000"/>
            <a:ext cx="2058840" cy="1544760"/>
          </a:xfrm>
          <a:prstGeom prst="rect">
            <a:avLst/>
          </a:prstGeom>
          <a:ln w="0">
            <a:noFill/>
          </a:ln>
        </p:spPr>
      </p:pic>
      <p:pic>
        <p:nvPicPr>
          <p:cNvPr id="383" name="Picture 7" descr="\\fs\Отделы\ЭПИДНАДЗОР\Василенко-ЯО\ГРИПП\МЕРОПРИЯТИЯ_ГРИПП\разьяснит работа-НАСЕЛЕНИЕ сезон 16-17 гг\В ТО письмо-4.08.16 г\Plastikovie_okna_pravilniy.jpg"/>
          <p:cNvPicPr/>
          <p:nvPr/>
        </p:nvPicPr>
        <p:blipFill>
          <a:blip r:embed="rId4"/>
          <a:stretch/>
        </p:blipFill>
        <p:spPr>
          <a:xfrm>
            <a:off x="6400800" y="3809880"/>
            <a:ext cx="2057400" cy="1322640"/>
          </a:xfrm>
          <a:prstGeom prst="rect">
            <a:avLst/>
          </a:prstGeom>
          <a:ln w="0">
            <a:noFill/>
          </a:ln>
        </p:spPr>
      </p:pic>
      <p:pic>
        <p:nvPicPr>
          <p:cNvPr id="384" name="Picture 8" descr="\\fs\Отделы\ЭПИДНАДЗОР\Василенко-ЯО\ГРИПП\МЕРОПРИЯТИЯ_ГРИПП\разьяснит работа-НАСЕЛЕНИЕ сезон 16-17 гг\В ТО письмо-4.08.16 г\wash_hands1.jpg"/>
          <p:cNvPicPr/>
          <p:nvPr/>
        </p:nvPicPr>
        <p:blipFill>
          <a:blip r:embed="rId5"/>
          <a:stretch/>
        </p:blipFill>
        <p:spPr>
          <a:xfrm>
            <a:off x="3962520" y="2133720"/>
            <a:ext cx="1409760" cy="1409760"/>
          </a:xfrm>
          <a:prstGeom prst="rect">
            <a:avLst/>
          </a:prstGeom>
          <a:ln w="0">
            <a:noFill/>
          </a:ln>
        </p:spPr>
      </p:pic>
      <p:pic>
        <p:nvPicPr>
          <p:cNvPr id="385" name="Picture 10" descr="\\fs\Отделы\ЭПИДНАДЗОР\Василенко-ЯО\ГРИПП\МЕРОПРИЯТИЯ_ГРИПП\разьяснит работа-НАСЕЛЕНИЕ сезон 16-17 гг\В ТО письмо-4.08.16 г\i (1).jpg"/>
          <p:cNvPicPr/>
          <p:nvPr/>
        </p:nvPicPr>
        <p:blipFill>
          <a:blip r:embed="rId6"/>
          <a:stretch/>
        </p:blipFill>
        <p:spPr>
          <a:xfrm>
            <a:off x="4495680" y="3886200"/>
            <a:ext cx="2133720" cy="2405160"/>
          </a:xfrm>
          <a:prstGeom prst="rect">
            <a:avLst/>
          </a:prstGeom>
          <a:ln w="0">
            <a:noFill/>
          </a:ln>
        </p:spPr>
      </p:pic>
      <p:pic>
        <p:nvPicPr>
          <p:cNvPr id="386" name="Picture 4" descr="уборка"/>
          <p:cNvPicPr/>
          <p:nvPr/>
        </p:nvPicPr>
        <p:blipFill>
          <a:blip r:embed="rId7"/>
          <a:stretch/>
        </p:blipFill>
        <p:spPr>
          <a:xfrm>
            <a:off x="6629400" y="5105520"/>
            <a:ext cx="1628640" cy="1447560"/>
          </a:xfrm>
          <a:prstGeom prst="rect">
            <a:avLst/>
          </a:prstGeom>
          <a:ln w="0">
            <a:noFill/>
          </a:ln>
        </p:spPr>
      </p:pic>
      <p:sp>
        <p:nvSpPr>
          <p:cNvPr id="387" name="Прямоугольник 14"/>
          <p:cNvSpPr/>
          <p:nvPr/>
        </p:nvSpPr>
        <p:spPr>
          <a:xfrm>
            <a:off x="838080" y="617220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КЦИНАЦИЯ ОТ ГРИПП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457200" y="1599840"/>
            <a:ext cx="73152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акцинироваться от гриппа нужно в осенний период 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ививка не ослабляет, а наоборот, усиливает способность организма противостоять гриппу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акцинация проводится после осмотра врача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0" name="Picture 3" descr="\\fs\Отделы\ЭПИДНАДЗОР\Василенко-ЯО\ГРИПП\МЕРОПРИЯТИЯ_ГРИПП\разьяснит работа-НАСЕЛЕНИЕ сезон 16-17 гг\В ТО письмо-4.08.16 г\2477752_шприц-вектора-стороны-эскиз-cartoon-медицинской.jpg"/>
          <p:cNvPicPr/>
          <p:nvPr/>
        </p:nvPicPr>
        <p:blipFill>
          <a:blip r:embed="rId1"/>
          <a:stretch/>
        </p:blipFill>
        <p:spPr>
          <a:xfrm>
            <a:off x="3352680" y="4114800"/>
            <a:ext cx="3429000" cy="2057400"/>
          </a:xfrm>
          <a:prstGeom prst="rect">
            <a:avLst/>
          </a:prstGeom>
          <a:ln w="0">
            <a:noFill/>
          </a:ln>
        </p:spPr>
      </p:pic>
      <p:sp>
        <p:nvSpPr>
          <p:cNvPr id="391" name="Прямоугольник 8"/>
          <p:cNvSpPr/>
          <p:nvPr/>
        </p:nvSpPr>
        <p:spPr>
          <a:xfrm>
            <a:off x="304920" y="6172200"/>
            <a:ext cx="7924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ЛЯ КОГО ГРИПП ОПАСНЫЙ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3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entury Schoolbook"/>
              </a:rPr>
              <a:t>-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и до 5 лет (особенно дети до 2 лет)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ахарным диабет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ольные с хроническими заболеваниями легких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беременные женщин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лишним весом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больные с хроническими сердечно-сосудистыми заболеваниям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люди с другими хроническими заболеваниями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юди старше 60 ле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sp>
        <p:nvSpPr>
          <p:cNvPr id="394" name="Прямоугольник 3"/>
          <p:cNvSpPr/>
          <p:nvPr/>
        </p:nvSpPr>
        <p:spPr>
          <a:xfrm>
            <a:off x="1066680" y="6095880"/>
            <a:ext cx="7162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67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ЫЕ ГРУППЫ РИСКА:</a:t>
            </a:r>
            <a:br>
              <a:rPr sz="3000"/>
            </a:br>
            <a:endParaRPr b="0" lang="en-US" sz="3000" spc="-1" strike="noStrike">
              <a:solidFill>
                <a:srgbClr val="575f6d"/>
              </a:solidFill>
              <a:latin typeface="Century Schoolbook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142640"/>
            <a:ext cx="7467480" cy="76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14000"/>
          </a:bodyPr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медицинские работник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учителя и воспитатели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продавцы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водители, кондуктора;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 работники общественных мест.</a:t>
            </a: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  <a:p>
            <a:pPr marL="38160" indent="-38160">
              <a:lnSpc>
                <a:spcPct val="100000"/>
              </a:lnSpc>
              <a:spcBef>
                <a:spcPts val="601"/>
              </a:spcBef>
              <a:buClr>
                <a:srgbClr val="fe8637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entury Schoolbook"/>
            </a:endParaRPr>
          </a:p>
        </p:txBody>
      </p:sp>
      <p:pic>
        <p:nvPicPr>
          <p:cNvPr id="397" name="Picture 4" descr="\\fs\Отделы\ЭПИДНАДЗОР\Василенко-ЯО\ГРИПП\МЕРОПРИЯТИЯ_ГРИПП\разьяснит работа-НАСЕЛЕНИЕ сезон 16-17 гг\В ТО письмо-4.08.16 г\6960575.png"/>
          <p:cNvPicPr/>
          <p:nvPr/>
        </p:nvPicPr>
        <p:blipFill>
          <a:blip r:embed="rId1"/>
          <a:stretch/>
        </p:blipFill>
        <p:spPr>
          <a:xfrm>
            <a:off x="4343400" y="1981080"/>
            <a:ext cx="1828800" cy="124164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6" descr="\\fs\Отделы\ЭПИДНАДЗОР\Василенко-ЯО\ГРИПП\МЕРОПРИЯТИЯ_ГРИПП\разьяснит работа-НАСЕЛЕНИЕ сезон 16-17 гг\В ТО письмо-4.08.16 г\depositphotos_47242093-Delivery-truck-driver-waving-cartoon.jpg"/>
          <p:cNvPicPr/>
          <p:nvPr/>
        </p:nvPicPr>
        <p:blipFill>
          <a:blip r:embed="rId2"/>
          <a:stretch/>
        </p:blipFill>
        <p:spPr>
          <a:xfrm>
            <a:off x="4564080" y="3421080"/>
            <a:ext cx="15840" cy="1440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8" descr="\\fs\Отделы\ЭПИДНАДЗОР\Василенко-ЯО\ГРИПП\МЕРОПРИЯТИЯ_ГРИПП\разьяснит работа-НАСЕЛЕНИЕ сезон 16-17 гг\В ТО письмо-4.08.16 г\11529427-Cartoon-car-with-a-man-driver-and-passenger-a-woman-Vector-Stock-Vector.jpg"/>
          <p:cNvPicPr/>
          <p:nvPr/>
        </p:nvPicPr>
        <p:blipFill>
          <a:blip r:embed="rId3"/>
          <a:stretch/>
        </p:blipFill>
        <p:spPr>
          <a:xfrm>
            <a:off x="6477120" y="3809880"/>
            <a:ext cx="1676160" cy="137484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9" descr="\\fs\Отделы\ЭПИДНАДЗОР\Василенко-ЯО\ГРИПП\МЕРОПРИЯТИЯ_ГРИПП\разьяснит работа-НАСЕЛЕНИЕ сезон 16-17 гг\В ТО письмо-4.08.16 г\train-conductor.jpg"/>
          <p:cNvPicPr/>
          <p:nvPr/>
        </p:nvPicPr>
        <p:blipFill>
          <a:blip r:embed="rId4"/>
          <a:stretch/>
        </p:blipFill>
        <p:spPr>
          <a:xfrm>
            <a:off x="4267080" y="4267080"/>
            <a:ext cx="1371600" cy="13716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20" descr="\\fs\Отделы\ЭПИДНАДЗОР\Василенко-ЯО\ГРИПП\МЕРОПРИЯТИЯ_ГРИПП\разьяснит работа-НАСЕЛЕНИЕ сезон 16-17 гг\В ТО письмо-4.08.16 г\ne_zabytoe_staroe.jpg"/>
          <p:cNvPicPr/>
          <p:nvPr/>
        </p:nvPicPr>
        <p:blipFill>
          <a:blip r:embed="rId5"/>
          <a:stretch/>
        </p:blipFill>
        <p:spPr>
          <a:xfrm>
            <a:off x="5943600" y="5334120"/>
            <a:ext cx="1828800" cy="121752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22" descr="\\fs\Отделы\ЭПИДНАДЗОР\Василенко-ЯО\ГРИПП\МЕРОПРИЯТИЯ_ГРИПП\разьяснит работа-НАСЕЛЕНИЕ сезон 16-17 гг\В ТО письмо-4.08.16 г\рррррррррррр.jpg"/>
          <p:cNvPicPr/>
          <p:nvPr/>
        </p:nvPicPr>
        <p:blipFill>
          <a:blip r:embed="rId6"/>
          <a:stretch/>
        </p:blipFill>
        <p:spPr>
          <a:xfrm>
            <a:off x="1600200" y="3429000"/>
            <a:ext cx="1943280" cy="129528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23" descr="\\fs\Отделы\ЭПИДНАДЗОР\Василенко-ЯО\ГРИПП\МЕРОПРИЯТИЯ_ГРИПП\разьяснит работа-НАСЕЛЕНИЕ сезон 16-17 гг\В ТО письмо-4.08.16 г\sm.jpg"/>
          <p:cNvPicPr/>
          <p:nvPr/>
        </p:nvPicPr>
        <p:blipFill>
          <a:blip r:embed="rId7"/>
          <a:stretch/>
        </p:blipFill>
        <p:spPr>
          <a:xfrm>
            <a:off x="1219320" y="1066680"/>
            <a:ext cx="1218960" cy="1568520"/>
          </a:xfrm>
          <a:prstGeom prst="rect">
            <a:avLst/>
          </a:prstGeom>
          <a:ln w="0">
            <a:noFill/>
          </a:ln>
        </p:spPr>
      </p:pic>
      <p:sp>
        <p:nvSpPr>
          <p:cNvPr id="404" name="Прямоугольник 25"/>
          <p:cNvSpPr/>
          <p:nvPr/>
        </p:nvSpPr>
        <p:spPr>
          <a:xfrm>
            <a:off x="1066680" y="6095880"/>
            <a:ext cx="4572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4600"/>
                </a:solidFill>
                <a:latin typeface="Arial"/>
              </a:rPr>
              <a:t>Управление Роспотребнадзора по Республике Татарстан (Татарстан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Text Box 7"/>
          <p:cNvSpPr/>
          <p:nvPr/>
        </p:nvSpPr>
        <p:spPr>
          <a:xfrm>
            <a:off x="684360" y="4797360"/>
            <a:ext cx="799308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БУДЬТЕ ЗДОРОВЫ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Arial"/>
              </a:rPr>
              <a:t>Сделай прививку сейчас, чтобы не болеть потом!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C:\Documents and Settings\Администратор\Мои документы\Мои рисунки\111эмблема.jpg"/>
          <p:cNvPicPr/>
          <p:nvPr/>
        </p:nvPicPr>
        <p:blipFill>
          <a:blip r:embed="rId1"/>
          <a:stretch/>
        </p:blipFill>
        <p:spPr>
          <a:xfrm>
            <a:off x="2627280" y="260280"/>
            <a:ext cx="3816360" cy="38894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0"/>
              </a:srgbClr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orinthian</dc:creator>
  <dc:description/>
  <dc:language>en-US</dc:language>
  <cp:lastModifiedBy>1</cp:lastModifiedBy>
  <dcterms:modified xsi:type="dcterms:W3CDTF">2016-09-13T04:55:46Z</dcterms:modified>
  <cp:revision>6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