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22C28-8806-430A-8BC5-E847FF7FB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310D2-7E8A-4CE1-8430-56AC008C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1DA06-0AFE-4E5F-94D8-DE2EE0F3A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DC24E-8C73-4606-98C8-3A5CF2D07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8B97-CD21-482B-A601-61263B8CE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4D2C-063D-46C1-A9B5-C8E21DB1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B9BA-757C-4584-86AE-42EEF6DF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8352-9D54-4873-93BA-CA9AC50E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E6F3-5B22-4E0C-A211-B4F20712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D0AF-E0B1-4A2C-ABD4-5901B9A0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8DE9-6EDA-4C01-B025-C8773942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C0C08-395A-4A0D-8E42-428B6A1F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A26C-0B2B-43CE-8B3D-14A29B18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FF12-F69C-42F9-95D2-E906E314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A695-6541-4F06-8AA7-4D837720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F1D3-2696-42A7-95A4-F7BF77A45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31D0-0988-4F6B-8DF1-A0F033121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413A3-8560-4254-BCB4-D7D9A878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E2835-3756-4437-B387-A41D736A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E6F04-BD59-4A43-A269-84346104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E5C8F-439A-4D38-9012-AD292203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D0A20-0DB7-44AD-BE23-5BAA46DD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9D17E-AB3D-462F-B96A-CFE281ED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D39B6-D08C-4F40-9CE1-1DA3AB10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AB2D-31E9-4AF3-A43F-6A07AA0F847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AC8D-0134-41FB-B4D1-AFB77799112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Environmental problem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ткрытый урок в 10 А класс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читель: Анварова Л.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БОУ Балтасинская гимназия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ground  rock  roots  leaves  bark  trunk  branch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00000" y="184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.The part of a plant which is under the surfa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. The small green things on plants and tre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. A part of a tree which has leaves on i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. The tall, round, central part of a tre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. The hard outside surface of a tre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6. What the earth is made of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7.The surface of the earth, where we walk or sta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4" descr="1"/>
          <p:cNvPicPr/>
          <p:nvPr/>
        </p:nvPicPr>
        <p:blipFill>
          <a:blip r:embed="rId1"/>
          <a:stretch/>
        </p:blipFill>
        <p:spPr>
          <a:xfrm>
            <a:off x="250920" y="260280"/>
            <a:ext cx="8497800" cy="61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Which person says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  we can do more to help?_________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   you should put on lots of sun cream?_______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  we should stop using certain products? ________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  ozone can be good and bad? ________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  he/she doesn’t wear a hat in the sun? _________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  clouds do not protect you from the sun? __________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Match the words in list A with the words in list B to make phrases about environmental problems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. glob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. ozo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. aci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. exhau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. dump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6. aeroso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7. endanger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 lay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  warm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  fum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  rubbis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  spec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  ra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 cans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Match the verbs in list A with the words in list B to make phrases which give solutions to environmental problems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 clo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  lea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  protec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  sa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  recyc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6  b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 the car at ho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  rubbis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  aeroso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  anima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  factor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  wat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Which problems and solutions match these comment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y should close that chemical factor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.Why don’t people use public transport more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. We must stop using aerosol hairspray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. We should use old papers and bottles agai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. We ought to ban hunting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780000" y="1557000"/>
            <a:ext cx="4906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blem       Solu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cid rain       close factori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4" descr="2"/>
          <p:cNvPicPr/>
          <p:nvPr/>
        </p:nvPicPr>
        <p:blipFill>
          <a:blip r:embed="rId1"/>
          <a:stretch/>
        </p:blipFill>
        <p:spPr>
          <a:xfrm>
            <a:off x="0" y="-747720"/>
            <a:ext cx="9396360" cy="8856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2T20:18:11Z</dcterms:created>
  <dc:creator>user</dc:creator>
  <dc:description/>
  <dc:language>en-US</dc:language>
  <cp:lastModifiedBy>Lilija</cp:lastModifiedBy>
  <dcterms:modified xsi:type="dcterms:W3CDTF">2013-02-26T04:36:31Z</dcterms:modified>
  <cp:revision>8</cp:revision>
  <dc:subject/>
  <dc:title>ground  rock  roots  leaves  bark  trunk  branch</dc:title>
</cp:coreProperties>
</file>